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9600" y="-36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38480" cy="370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4640" bIns="446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20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9600" y="9378720"/>
            <a:ext cx="2921040" cy="4921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24FC-8FAE-432E-AF14-98155A5D0F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19600" y="9379080"/>
            <a:ext cx="29210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D7EE-F6F8-4D75-B0FD-1159B64792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05040" y="739800"/>
            <a:ext cx="4938480" cy="37051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1B29-D2BD-438E-81EA-CBB6D2503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4832-DBF8-46D6-BCD3-A9EBDDDF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4E0-5A6D-4775-981D-32D9AE79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5E39-078E-42DA-9D84-685D48B9C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5CCF-EFE6-429A-8DFA-5372177E9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CDEE-0F73-46FB-A5C5-6F68AD05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730C-2712-4F2B-9B66-EFCF8A219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BFB7-4969-46FD-A5A9-27332938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68A6-A7F2-4619-B498-F11ECC9E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B569-749D-4387-B18B-92A1C313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40D0-F4AE-4244-90EA-AA62F7DC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E4B3-5948-4DE6-BCAE-6B5F23D6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B605-F9A3-4B13-BBDB-76E71FBA6B0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258920" y="4292640"/>
            <a:ext cx="7561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ша ми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Мы помогаем обрести желанное простран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для счастливой жизни, отдыха и общения с близки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Z:\Лена\фирменный стиль\Logotyp\Logo_IAU.jpg"/>
          <p:cNvPicPr/>
          <p:nvPr/>
        </p:nvPicPr>
        <p:blipFill>
          <a:blip r:embed="rId2"/>
          <a:stretch/>
        </p:blipFill>
        <p:spPr>
          <a:xfrm>
            <a:off x="1258920" y="2637000"/>
            <a:ext cx="223344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31640" y="262800"/>
            <a:ext cx="280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ГРАФИК ИЗМЕНЕНИЯ КЛЮЧЕВОЙ СТАВКИ Ц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Диаграмма 4" descr=""/>
          <p:cNvPicPr/>
          <p:nvPr/>
        </p:nvPicPr>
        <p:blipFill>
          <a:blip r:embed="rId2"/>
          <a:stretch/>
        </p:blipFill>
        <p:spPr>
          <a:xfrm>
            <a:off x="426960" y="1841400"/>
            <a:ext cx="5261040" cy="425448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6"/>
          <p:cNvSpPr/>
          <p:nvPr/>
        </p:nvSpPr>
        <p:spPr>
          <a:xfrm rot="20251200">
            <a:off x="772560" y="4959000"/>
            <a:ext cx="88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 13.09.13 г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7"/>
          <p:cNvSpPr/>
          <p:nvPr/>
        </p:nvSpPr>
        <p:spPr>
          <a:xfrm rot="20251200">
            <a:off x="1307520" y="4944600"/>
            <a:ext cx="8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с 3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03.</a:t>
            </a: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14 г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9"/>
          <p:cNvSpPr/>
          <p:nvPr/>
        </p:nvSpPr>
        <p:spPr>
          <a:xfrm rot="20251200">
            <a:off x="1773000" y="4959360"/>
            <a:ext cx="88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с 2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5.04.</a:t>
            </a: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14 г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0"/>
          <p:cNvSpPr/>
          <p:nvPr/>
        </p:nvSpPr>
        <p:spPr>
          <a:xfrm rot="20251200">
            <a:off x="2307960" y="4959000"/>
            <a:ext cx="88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с 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25.07.</a:t>
            </a: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14 г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11"/>
          <p:cNvSpPr/>
          <p:nvPr/>
        </p:nvSpPr>
        <p:spPr>
          <a:xfrm rot="20251200">
            <a:off x="2841840" y="4944600"/>
            <a:ext cx="81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с 5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11.</a:t>
            </a: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14 г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2"/>
          <p:cNvSpPr/>
          <p:nvPr/>
        </p:nvSpPr>
        <p:spPr>
          <a:xfrm rot="20251200">
            <a:off x="3308040" y="4959000"/>
            <a:ext cx="88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с 12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12.</a:t>
            </a: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14 г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 rot="20251200">
            <a:off x="3843000" y="4959000"/>
            <a:ext cx="88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с 16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12.</a:t>
            </a: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14 г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4"/>
          <p:cNvSpPr/>
          <p:nvPr/>
        </p:nvSpPr>
        <p:spPr>
          <a:xfrm rot="20251200">
            <a:off x="4377960" y="4959000"/>
            <a:ext cx="88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с 30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01.</a:t>
            </a: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15 г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5"/>
          <p:cNvSpPr/>
          <p:nvPr/>
        </p:nvSpPr>
        <p:spPr>
          <a:xfrm rot="20251200">
            <a:off x="4912920" y="4959000"/>
            <a:ext cx="886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с 16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03.</a:t>
            </a:r>
            <a:r>
              <a:rPr b="0" lang="ru-RU" sz="1000" spc="-1" strike="noStrike">
                <a:solidFill>
                  <a:srgbClr val="252525"/>
                </a:solidFill>
                <a:latin typeface="Arial"/>
              </a:rPr>
              <a:t>15 г</a:t>
            </a:r>
            <a:r>
              <a:rPr b="0" lang="en-US" sz="1000" spc="-1" strike="noStrike">
                <a:solidFill>
                  <a:srgbClr val="252525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6"/>
          <p:cNvSpPr/>
          <p:nvPr/>
        </p:nvSpPr>
        <p:spPr>
          <a:xfrm>
            <a:off x="830700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028C-83CE-41AE-ADD6-3B1A8367C8AC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олилиния 18"/>
          <p:cNvSpPr/>
          <p:nvPr/>
        </p:nvSpPr>
        <p:spPr>
          <a:xfrm flipV="1">
            <a:off x="5759280" y="1951560"/>
            <a:ext cx="2975040" cy="4032360"/>
          </a:xfrm>
          <a:custGeom>
            <a:avLst/>
            <a:gdLst/>
            <a:ahLst/>
            <a:rect l="l" t="t" r="r" b="b"/>
            <a:pathLst>
              <a:path w="2799145" h="4572558">
                <a:moveTo>
                  <a:pt x="350873" y="172530"/>
                </a:moveTo>
                <a:cubicBezTo>
                  <a:pt x="350873" y="126772"/>
                  <a:pt x="369050" y="82889"/>
                  <a:pt x="401406" y="50533"/>
                </a:cubicBezTo>
                <a:cubicBezTo>
                  <a:pt x="433762" y="18177"/>
                  <a:pt x="477645" y="0"/>
                  <a:pt x="523403" y="0"/>
                </a:cubicBezTo>
                <a:lnTo>
                  <a:pt x="2626615" y="0"/>
                </a:lnTo>
                <a:cubicBezTo>
                  <a:pt x="2672373" y="0"/>
                  <a:pt x="2716256" y="18177"/>
                  <a:pt x="2748612" y="50533"/>
                </a:cubicBezTo>
                <a:cubicBezTo>
                  <a:pt x="2780968" y="82889"/>
                  <a:pt x="2799145" y="126772"/>
                  <a:pt x="2799145" y="172530"/>
                </a:cubicBezTo>
                <a:lnTo>
                  <a:pt x="2799145" y="4400028"/>
                </a:lnTo>
                <a:cubicBezTo>
                  <a:pt x="2799145" y="4445786"/>
                  <a:pt x="2780968" y="4489670"/>
                  <a:pt x="2748612" y="4522025"/>
                </a:cubicBezTo>
                <a:cubicBezTo>
                  <a:pt x="2716256" y="4554381"/>
                  <a:pt x="2672373" y="4572558"/>
                  <a:pt x="2626615" y="4572558"/>
                </a:cubicBezTo>
                <a:lnTo>
                  <a:pt x="523403" y="4572558"/>
                </a:lnTo>
                <a:cubicBezTo>
                  <a:pt x="477645" y="4572558"/>
                  <a:pt x="433761" y="4554381"/>
                  <a:pt x="401406" y="4522025"/>
                </a:cubicBezTo>
                <a:cubicBezTo>
                  <a:pt x="369050" y="4489669"/>
                  <a:pt x="358862" y="4475592"/>
                  <a:pt x="350873" y="4400028"/>
                </a:cubicBezTo>
                <a:cubicBezTo>
                  <a:pt x="351739" y="4289565"/>
                  <a:pt x="352606" y="4179103"/>
                  <a:pt x="353472" y="4068640"/>
                </a:cubicBezTo>
                <a:cubicBezTo>
                  <a:pt x="349803" y="4057109"/>
                  <a:pt x="16994" y="4059769"/>
                  <a:pt x="0" y="4061585"/>
                </a:cubicBezTo>
                <a:cubicBezTo>
                  <a:pt x="2563" y="4044153"/>
                  <a:pt x="343109" y="3631282"/>
                  <a:pt x="351802" y="3616478"/>
                </a:cubicBezTo>
                <a:cubicBezTo>
                  <a:pt x="351492" y="2449428"/>
                  <a:pt x="351183" y="1339580"/>
                  <a:pt x="350873" y="172530"/>
                </a:cubicBezTo>
                <a:close/>
              </a:path>
            </a:pathLst>
          </a:custGeom>
          <a:noFill/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9"/>
          <p:cNvSpPr/>
          <p:nvPr/>
        </p:nvSpPr>
        <p:spPr>
          <a:xfrm>
            <a:off x="6408720" y="2255760"/>
            <a:ext cx="2087640" cy="34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13 марта 2015 г. Правительство РФ приняло решение о предоставлении субсидий из федерального бюджета российским банкам, на возмещение недополученных доходов по выданным ипотечным кредитам. В результате банки снизили процентную ставку по ипотеке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настоящий момент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Сбербанк – от 11,9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Ханты-Мансийский банк Открытие – от 11,55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</a:rPr>
              <a:t>ВТБ 24 – от 12%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3"/>
          <p:cNvSpPr/>
          <p:nvPr/>
        </p:nvSpPr>
        <p:spPr>
          <a:xfrm>
            <a:off x="1222200" y="3538440"/>
            <a:ext cx="5511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 Narrow"/>
              </a:rPr>
              <a:t>6</a:t>
            </a:r>
            <a:r>
              <a:rPr b="1" lang="ru-RU" sz="1200" spc="-1" strike="noStrike">
                <a:solidFill>
                  <a:srgbClr val="0070c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70c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8"/>
          <p:cNvSpPr/>
          <p:nvPr/>
        </p:nvSpPr>
        <p:spPr>
          <a:xfrm>
            <a:off x="1258920" y="4870440"/>
            <a:ext cx="3610080" cy="14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ПАО «Ханты-Мансийский банк Открыт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ОАО Западно-Сибирский банк «Сбербан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ОАО «Запсибкомбан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ЗАО «Сургутнефтегазбан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Банк «Уралсиб-Нижневартовс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ОАО «Росбан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2"/>
          <p:cNvSpPr/>
          <p:nvPr/>
        </p:nvSpPr>
        <p:spPr>
          <a:xfrm>
            <a:off x="4861080" y="3538440"/>
            <a:ext cx="1295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 Narrow"/>
              </a:rPr>
              <a:t>1</a:t>
            </a:r>
            <a:r>
              <a:rPr b="1" lang="en-US" sz="4000" spc="-1" strike="noStrike">
                <a:solidFill>
                  <a:srgbClr val="0070c0"/>
                </a:solidFill>
                <a:latin typeface="Arial Narrow"/>
              </a:rPr>
              <a:t>2</a:t>
            </a:r>
            <a:r>
              <a:rPr b="1" lang="ru-RU" sz="3000" spc="-1" strike="noStrike">
                <a:solidFill>
                  <a:srgbClr val="0070c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4"/>
          <p:cNvSpPr/>
          <p:nvPr/>
        </p:nvSpPr>
        <p:spPr>
          <a:xfrm>
            <a:off x="5797440" y="361476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от объема выданных ипотечных кредит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в Югре по данным ЦБ РФ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5253120" y="1860480"/>
            <a:ext cx="1969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 Narrow"/>
              </a:rPr>
              <a:t>2 0</a:t>
            </a:r>
            <a:r>
              <a:rPr b="1" lang="en-US" sz="4000" spc="-1" strike="noStrike">
                <a:solidFill>
                  <a:srgbClr val="0070c0"/>
                </a:solidFill>
                <a:latin typeface="Arial Narrow"/>
              </a:rPr>
              <a:t>18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креди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1"/>
          <p:cNvSpPr/>
          <p:nvPr/>
        </p:nvSpPr>
        <p:spPr>
          <a:xfrm>
            <a:off x="5349960" y="2417760"/>
            <a:ext cx="166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 Narrow"/>
              </a:rPr>
              <a:t>4,4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млрд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31640" y="441360"/>
            <a:ext cx="45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  "/>
              </a:rPr>
              <a:t>ПОДБОР ИПОТЕЧНОГО КРЕДИ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8"/>
          <p:cNvSpPr/>
          <p:nvPr/>
        </p:nvSpPr>
        <p:spPr>
          <a:xfrm>
            <a:off x="1604880" y="1860480"/>
            <a:ext cx="2305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 Narrow"/>
              </a:rPr>
              <a:t>912</a:t>
            </a:r>
            <a:r>
              <a:rPr b="1" lang="en-US" sz="2000" spc="-1" strike="noStrike">
                <a:solidFill>
                  <a:srgbClr val="4f81bd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реди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48"/>
          <p:cNvSpPr/>
          <p:nvPr/>
        </p:nvSpPr>
        <p:spPr>
          <a:xfrm>
            <a:off x="1756080" y="2489040"/>
            <a:ext cx="1669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 Narrow"/>
              </a:rPr>
              <a:t>2,4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млрд. ру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258920" y="4510080"/>
            <a:ext cx="741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"/>
              </a:rPr>
              <a:t>Заключены соглашения со следующими банками</a:t>
            </a:r>
            <a:r>
              <a:rPr b="1" lang="en-US" sz="1400" spc="-1" strike="noStrike">
                <a:solidFill>
                  <a:srgbClr val="000000"/>
                </a:solidFill>
                <a:latin typeface="Arial 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 "/>
              </a:rPr>
              <a:t>(по состоянию на 31.12.2014 г.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4"/>
          <p:cNvSpPr/>
          <p:nvPr/>
        </p:nvSpPr>
        <p:spPr>
          <a:xfrm>
            <a:off x="1965240" y="361476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от объема выданных ипотечных кредит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в Югре по данным ЦБ Р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4"/>
          <p:cNvSpPr/>
          <p:nvPr/>
        </p:nvSpPr>
        <p:spPr>
          <a:xfrm>
            <a:off x="4859280" y="6202440"/>
            <a:ext cx="3722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*Объем выдачи на 2014 год равен 35,910 млрд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48"/>
          <p:cNvSpPr/>
          <p:nvPr/>
        </p:nvSpPr>
        <p:spPr>
          <a:xfrm>
            <a:off x="1301400" y="137808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48"/>
          <p:cNvSpPr/>
          <p:nvPr/>
        </p:nvSpPr>
        <p:spPr>
          <a:xfrm>
            <a:off x="5009760" y="137808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0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35"/>
          <p:cNvSpPr/>
          <p:nvPr/>
        </p:nvSpPr>
        <p:spPr>
          <a:xfrm flipH="1">
            <a:off x="4858920" y="6148440"/>
            <a:ext cx="3721320" cy="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олилиния 36"/>
          <p:cNvSpPr/>
          <p:nvPr/>
        </p:nvSpPr>
        <p:spPr>
          <a:xfrm>
            <a:off x="1258920" y="1701720"/>
            <a:ext cx="2521080" cy="1800360"/>
          </a:xfrm>
          <a:custGeom>
            <a:avLst/>
            <a:gdLst/>
            <a:ahLst/>
            <a:rect l="l" t="t" r="r" b="b"/>
            <a:pathLst>
              <a:path w="2520280" h="2052228">
                <a:moveTo>
                  <a:pt x="0" y="161046"/>
                </a:moveTo>
                <a:cubicBezTo>
                  <a:pt x="0" y="118334"/>
                  <a:pt x="16967" y="77371"/>
                  <a:pt x="47169" y="47169"/>
                </a:cubicBezTo>
                <a:cubicBezTo>
                  <a:pt x="77371" y="16967"/>
                  <a:pt x="118334" y="0"/>
                  <a:pt x="161046" y="0"/>
                </a:cubicBezTo>
                <a:lnTo>
                  <a:pt x="2359234" y="0"/>
                </a:lnTo>
                <a:cubicBezTo>
                  <a:pt x="2401946" y="0"/>
                  <a:pt x="2442909" y="16967"/>
                  <a:pt x="2473111" y="47169"/>
                </a:cubicBezTo>
                <a:cubicBezTo>
                  <a:pt x="2503313" y="77371"/>
                  <a:pt x="2520280" y="118334"/>
                  <a:pt x="2520280" y="161046"/>
                </a:cubicBezTo>
                <a:lnTo>
                  <a:pt x="2520280" y="1639154"/>
                </a:lnTo>
                <a:cubicBezTo>
                  <a:pt x="2520280" y="1681866"/>
                  <a:pt x="2503313" y="1722829"/>
                  <a:pt x="2473111" y="1753031"/>
                </a:cubicBezTo>
                <a:cubicBezTo>
                  <a:pt x="2442909" y="1783233"/>
                  <a:pt x="2381498" y="1796788"/>
                  <a:pt x="2359234" y="1800200"/>
                </a:cubicBezTo>
                <a:lnTo>
                  <a:pt x="1424474" y="1799741"/>
                </a:lnTo>
                <a:lnTo>
                  <a:pt x="1260141" y="2052228"/>
                </a:lnTo>
                <a:lnTo>
                  <a:pt x="1109921" y="1799741"/>
                </a:lnTo>
                <a:lnTo>
                  <a:pt x="161046" y="1800200"/>
                </a:lnTo>
                <a:cubicBezTo>
                  <a:pt x="118334" y="1800200"/>
                  <a:pt x="77371" y="1783233"/>
                  <a:pt x="47169" y="1753031"/>
                </a:cubicBezTo>
                <a:cubicBezTo>
                  <a:pt x="16967" y="1722829"/>
                  <a:pt x="0" y="1681866"/>
                  <a:pt x="0" y="1639154"/>
                </a:cubicBezTo>
                <a:lnTo>
                  <a:pt x="0" y="161046"/>
                </a:lnTo>
                <a:close/>
              </a:path>
            </a:pathLst>
          </a:cu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олилиния 37"/>
          <p:cNvSpPr/>
          <p:nvPr/>
        </p:nvSpPr>
        <p:spPr>
          <a:xfrm>
            <a:off x="4967280" y="1701720"/>
            <a:ext cx="2521080" cy="1800360"/>
          </a:xfrm>
          <a:custGeom>
            <a:avLst/>
            <a:gdLst/>
            <a:ahLst/>
            <a:rect l="l" t="t" r="r" b="b"/>
            <a:pathLst>
              <a:path w="2520280" h="2052228">
                <a:moveTo>
                  <a:pt x="0" y="161046"/>
                </a:moveTo>
                <a:cubicBezTo>
                  <a:pt x="0" y="118334"/>
                  <a:pt x="16967" y="77371"/>
                  <a:pt x="47169" y="47169"/>
                </a:cubicBezTo>
                <a:cubicBezTo>
                  <a:pt x="77371" y="16967"/>
                  <a:pt x="118334" y="0"/>
                  <a:pt x="161046" y="0"/>
                </a:cubicBezTo>
                <a:lnTo>
                  <a:pt x="2359234" y="0"/>
                </a:lnTo>
                <a:cubicBezTo>
                  <a:pt x="2401946" y="0"/>
                  <a:pt x="2442909" y="16967"/>
                  <a:pt x="2473111" y="47169"/>
                </a:cubicBezTo>
                <a:cubicBezTo>
                  <a:pt x="2503313" y="77371"/>
                  <a:pt x="2520280" y="118334"/>
                  <a:pt x="2520280" y="161046"/>
                </a:cubicBezTo>
                <a:lnTo>
                  <a:pt x="2520280" y="1639154"/>
                </a:lnTo>
                <a:cubicBezTo>
                  <a:pt x="2520280" y="1681866"/>
                  <a:pt x="2503313" y="1722829"/>
                  <a:pt x="2473111" y="1753031"/>
                </a:cubicBezTo>
                <a:cubicBezTo>
                  <a:pt x="2442909" y="1783233"/>
                  <a:pt x="2381498" y="1796788"/>
                  <a:pt x="2359234" y="1800200"/>
                </a:cubicBezTo>
                <a:lnTo>
                  <a:pt x="1424474" y="1799741"/>
                </a:lnTo>
                <a:lnTo>
                  <a:pt x="1260141" y="2052228"/>
                </a:lnTo>
                <a:lnTo>
                  <a:pt x="1109921" y="1799741"/>
                </a:lnTo>
                <a:lnTo>
                  <a:pt x="161046" y="1800200"/>
                </a:lnTo>
                <a:cubicBezTo>
                  <a:pt x="118334" y="1800200"/>
                  <a:pt x="77371" y="1783233"/>
                  <a:pt x="47169" y="1753031"/>
                </a:cubicBezTo>
                <a:cubicBezTo>
                  <a:pt x="16967" y="1722829"/>
                  <a:pt x="0" y="1681866"/>
                  <a:pt x="0" y="1639154"/>
                </a:cubicBezTo>
                <a:lnTo>
                  <a:pt x="0" y="161046"/>
                </a:lnTo>
                <a:close/>
              </a:path>
            </a:pathLst>
          </a:cu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3F4C-A10A-45CB-980F-CFADAC33E963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Диаграмма 16" descr=""/>
          <p:cNvPicPr/>
          <p:nvPr/>
        </p:nvPicPr>
        <p:blipFill>
          <a:blip r:embed="rId2"/>
          <a:stretch/>
        </p:blipFill>
        <p:spPr>
          <a:xfrm>
            <a:off x="969840" y="3754440"/>
            <a:ext cx="3316320" cy="2805120"/>
          </a:xfrm>
          <a:prstGeom prst="rect">
            <a:avLst/>
          </a:prstGeom>
          <a:ln w="0">
            <a:noFill/>
          </a:ln>
        </p:spPr>
      </p:pic>
      <p:sp>
        <p:nvSpPr>
          <p:cNvPr id="214" name="Прямоугольник 4"/>
          <p:cNvSpPr/>
          <p:nvPr/>
        </p:nvSpPr>
        <p:spPr>
          <a:xfrm>
            <a:off x="2197080" y="3139920"/>
            <a:ext cx="194328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от индустриального ввода жилья в Юг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4"/>
          <p:cNvSpPr/>
          <p:nvPr/>
        </p:nvSpPr>
        <p:spPr>
          <a:xfrm>
            <a:off x="5797440" y="3139920"/>
            <a:ext cx="20163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от индустриального ввода  жилья в Юг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431640" y="441360"/>
            <a:ext cx="691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  "/>
              </a:rPr>
              <a:t>ПРОДАЖА ЖИ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3"/>
          <p:cNvSpPr/>
          <p:nvPr/>
        </p:nvSpPr>
        <p:spPr>
          <a:xfrm>
            <a:off x="1257480" y="2960640"/>
            <a:ext cx="97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 Narrow"/>
              </a:rPr>
              <a:t>0,7</a:t>
            </a:r>
            <a:r>
              <a:rPr b="1" lang="ru-RU" sz="1200" spc="-1" strike="noStrike">
                <a:solidFill>
                  <a:srgbClr val="0070c0"/>
                </a:solidFill>
                <a:latin typeface="Arial Narrow"/>
              </a:rPr>
              <a:t> </a:t>
            </a:r>
            <a:r>
              <a:rPr b="1" lang="en-US" sz="1200" spc="-1" strike="noStrike">
                <a:solidFill>
                  <a:srgbClr val="0070c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2"/>
          <p:cNvSpPr/>
          <p:nvPr/>
        </p:nvSpPr>
        <p:spPr>
          <a:xfrm>
            <a:off x="4861080" y="2960640"/>
            <a:ext cx="1295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 Narrow"/>
              </a:rPr>
              <a:t>6,</a:t>
            </a:r>
            <a:r>
              <a:rPr b="1" lang="ru-RU" sz="4000" spc="-1" strike="noStrike">
                <a:solidFill>
                  <a:srgbClr val="0070c0"/>
                </a:solidFill>
                <a:latin typeface="Arial Narrow"/>
              </a:rPr>
              <a:t>5</a:t>
            </a:r>
            <a:r>
              <a:rPr b="1" lang="ru-RU" sz="3000" spc="-1" strike="noStrike">
                <a:solidFill>
                  <a:srgbClr val="0070c0"/>
                </a:solidFill>
                <a:latin typeface="Arial Narrow"/>
              </a:rPr>
              <a:t> </a:t>
            </a:r>
            <a:r>
              <a:rPr b="1" lang="ru-RU" sz="2000" spc="-1" strike="noStrike">
                <a:solidFill>
                  <a:srgbClr val="0070c0"/>
                </a:solidFill>
                <a:latin typeface="Arial Narrow"/>
              </a:rPr>
              <a:t>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рямоугольник 48"/>
          <p:cNvSpPr/>
          <p:nvPr/>
        </p:nvSpPr>
        <p:spPr>
          <a:xfrm>
            <a:off x="1265760" y="133992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рямоугольник 48"/>
          <p:cNvSpPr/>
          <p:nvPr/>
        </p:nvSpPr>
        <p:spPr>
          <a:xfrm>
            <a:off x="4830480" y="133992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2014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8"/>
          <p:cNvSpPr/>
          <p:nvPr/>
        </p:nvSpPr>
        <p:spPr>
          <a:xfrm>
            <a:off x="1604880" y="2120760"/>
            <a:ext cx="1816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Arial Narrow"/>
              </a:rPr>
              <a:t>5 808,06</a:t>
            </a:r>
            <a:r>
              <a:rPr b="1" lang="en-US" sz="2000" spc="-1" strike="noStrike">
                <a:solidFill>
                  <a:srgbClr val="4f81bd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в. 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8"/>
          <p:cNvSpPr/>
          <p:nvPr/>
        </p:nvSpPr>
        <p:spPr>
          <a:xfrm>
            <a:off x="5143680" y="2120760"/>
            <a:ext cx="1589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Arial Narrow"/>
              </a:rPr>
              <a:t>57 70</a:t>
            </a:r>
            <a:r>
              <a:rPr b="1" lang="ru-RU" sz="4000" spc="-1" strike="noStrike">
                <a:solidFill>
                  <a:srgbClr val="0070c0"/>
                </a:solidFill>
                <a:latin typeface="Arial Narrow"/>
              </a:rPr>
              <a:t>0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кв. мет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4"/>
          <p:cNvSpPr/>
          <p:nvPr/>
        </p:nvSpPr>
        <p:spPr>
          <a:xfrm>
            <a:off x="4248000" y="6272280"/>
            <a:ext cx="4397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Calibri"/>
              </a:rPr>
              <a:t>*в том числе собственные квартиры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32"/>
          <p:cNvSpPr/>
          <p:nvPr/>
        </p:nvSpPr>
        <p:spPr>
          <a:xfrm flipH="1">
            <a:off x="5616360" y="6218280"/>
            <a:ext cx="3028680" cy="0"/>
          </a:xfrm>
          <a:prstGeom prst="line">
            <a:avLst/>
          </a:prstGeom>
          <a:ln w="1260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1268280" y="3828960"/>
            <a:ext cx="7048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"/>
              </a:rPr>
              <a:t>Доля проданного жилья в разрезе компаний-застройщиков, 2014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103640" y="4400640"/>
          <a:ext cx="2268720" cy="1476360"/>
        </p:xfrm>
        <a:graphic>
          <a:graphicData uri="http://schemas.openxmlformats.org/drawingml/2006/table">
            <a:tbl>
              <a:tblPr/>
              <a:tblGrid>
                <a:gridCol w="2268720"/>
              </a:tblGrid>
              <a:tr h="288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"/>
                        </a:rPr>
                        <a:t>Группа компаний «ССТ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0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"/>
                        </a:rPr>
                        <a:t>Квартиры Агентства (выкупленные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"/>
                        </a:rPr>
                        <a:t>у группы компаний  «Сибпромстрой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"/>
                        </a:rPr>
                        <a:t>ОФРЖС «Жилище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8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"/>
                        </a:rPr>
                        <a:t>ООО Кварта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"/>
                        </a:rPr>
                        <a:t>Остальные застройщик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7" name="Прямоугольник 35"/>
          <p:cNvSpPr/>
          <p:nvPr/>
        </p:nvSpPr>
        <p:spPr>
          <a:xfrm>
            <a:off x="3887640" y="4508640"/>
            <a:ext cx="108000" cy="107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36"/>
          <p:cNvSpPr/>
          <p:nvPr/>
        </p:nvSpPr>
        <p:spPr>
          <a:xfrm>
            <a:off x="3887640" y="4724280"/>
            <a:ext cx="108000" cy="1080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37"/>
          <p:cNvSpPr/>
          <p:nvPr/>
        </p:nvSpPr>
        <p:spPr>
          <a:xfrm>
            <a:off x="3887640" y="5121360"/>
            <a:ext cx="108000" cy="10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38"/>
          <p:cNvSpPr/>
          <p:nvPr/>
        </p:nvSpPr>
        <p:spPr>
          <a:xfrm>
            <a:off x="3887640" y="5391000"/>
            <a:ext cx="108000" cy="108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39"/>
          <p:cNvSpPr/>
          <p:nvPr/>
        </p:nvSpPr>
        <p:spPr>
          <a:xfrm>
            <a:off x="3887640" y="5695920"/>
            <a:ext cx="108000" cy="10800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Овал 40"/>
          <p:cNvSpPr/>
          <p:nvPr/>
        </p:nvSpPr>
        <p:spPr>
          <a:xfrm>
            <a:off x="1800360" y="4761000"/>
            <a:ext cx="1008000" cy="10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22"/>
          <p:cNvSpPr/>
          <p:nvPr/>
        </p:nvSpPr>
        <p:spPr>
          <a:xfrm>
            <a:off x="2771640" y="4869000"/>
            <a:ext cx="75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37 </a:t>
            </a:r>
            <a:r>
              <a:rPr b="1" lang="ru-RU" sz="1400" spc="-1" strike="noStrike">
                <a:solidFill>
                  <a:srgbClr val="ffffff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2"/>
          <p:cNvSpPr/>
          <p:nvPr/>
        </p:nvSpPr>
        <p:spPr>
          <a:xfrm>
            <a:off x="1116000" y="5353200"/>
            <a:ext cx="934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16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2"/>
          <p:cNvSpPr/>
          <p:nvPr/>
        </p:nvSpPr>
        <p:spPr>
          <a:xfrm>
            <a:off x="1584360" y="4452840"/>
            <a:ext cx="719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15 </a:t>
            </a: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22"/>
          <p:cNvSpPr/>
          <p:nvPr/>
        </p:nvSpPr>
        <p:spPr>
          <a:xfrm>
            <a:off x="1116000" y="4813200"/>
            <a:ext cx="934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7 </a:t>
            </a:r>
            <a:r>
              <a:rPr b="1" lang="ru-RU" sz="1400" spc="-1" strike="noStrike">
                <a:solidFill>
                  <a:srgbClr val="ffffff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рямоугольник 22"/>
          <p:cNvSpPr/>
          <p:nvPr/>
        </p:nvSpPr>
        <p:spPr>
          <a:xfrm>
            <a:off x="1908000" y="5913360"/>
            <a:ext cx="935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25 </a:t>
            </a:r>
            <a:r>
              <a:rPr b="1" lang="ru-RU" sz="1400" spc="-1" strike="noStrike">
                <a:solidFill>
                  <a:srgbClr val="ffffff"/>
                </a:solidFill>
                <a:latin typeface="Arial Narrow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олилиния 49"/>
          <p:cNvSpPr/>
          <p:nvPr/>
        </p:nvSpPr>
        <p:spPr>
          <a:xfrm>
            <a:off x="1258920" y="1652760"/>
            <a:ext cx="2521080" cy="1296720"/>
          </a:xfrm>
          <a:custGeom>
            <a:avLst/>
            <a:gdLst/>
            <a:ahLst/>
            <a:rect l="l" t="t" r="r" b="b"/>
            <a:pathLst>
              <a:path w="2520280" h="1296144">
                <a:moveTo>
                  <a:pt x="0" y="138232"/>
                </a:moveTo>
                <a:cubicBezTo>
                  <a:pt x="0" y="101571"/>
                  <a:pt x="14564" y="66411"/>
                  <a:pt x="40487" y="40487"/>
                </a:cubicBezTo>
                <a:cubicBezTo>
                  <a:pt x="66411" y="14563"/>
                  <a:pt x="101570" y="0"/>
                  <a:pt x="138232" y="0"/>
                </a:cubicBezTo>
                <a:lnTo>
                  <a:pt x="2382048" y="0"/>
                </a:lnTo>
                <a:cubicBezTo>
                  <a:pt x="2418709" y="0"/>
                  <a:pt x="2453869" y="14564"/>
                  <a:pt x="2479793" y="40487"/>
                </a:cubicBezTo>
                <a:cubicBezTo>
                  <a:pt x="2505717" y="66411"/>
                  <a:pt x="2520280" y="101570"/>
                  <a:pt x="2520280" y="138232"/>
                </a:cubicBezTo>
                <a:lnTo>
                  <a:pt x="2520280" y="1013896"/>
                </a:lnTo>
                <a:cubicBezTo>
                  <a:pt x="2520280" y="1050557"/>
                  <a:pt x="2505716" y="1085717"/>
                  <a:pt x="2479793" y="1111641"/>
                </a:cubicBezTo>
                <a:cubicBezTo>
                  <a:pt x="2453869" y="1137565"/>
                  <a:pt x="2398734" y="1151529"/>
                  <a:pt x="2382048" y="1152128"/>
                </a:cubicBezTo>
                <a:lnTo>
                  <a:pt x="1404156" y="1152128"/>
                </a:lnTo>
                <a:lnTo>
                  <a:pt x="1260140" y="1296144"/>
                </a:lnTo>
                <a:lnTo>
                  <a:pt x="1115325" y="1146266"/>
                </a:lnTo>
                <a:lnTo>
                  <a:pt x="138232" y="1152128"/>
                </a:lnTo>
                <a:cubicBezTo>
                  <a:pt x="101571" y="1152128"/>
                  <a:pt x="66411" y="1137564"/>
                  <a:pt x="40487" y="1111641"/>
                </a:cubicBezTo>
                <a:cubicBezTo>
                  <a:pt x="14563" y="1085717"/>
                  <a:pt x="0" y="1050558"/>
                  <a:pt x="0" y="1013896"/>
                </a:cubicBezTo>
                <a:lnTo>
                  <a:pt x="0" y="138232"/>
                </a:lnTo>
                <a:close/>
              </a:path>
            </a:pathLst>
          </a:custGeom>
          <a:noFill/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олилиния 50"/>
          <p:cNvSpPr/>
          <p:nvPr/>
        </p:nvSpPr>
        <p:spPr>
          <a:xfrm>
            <a:off x="4788000" y="1652760"/>
            <a:ext cx="2520720" cy="1296720"/>
          </a:xfrm>
          <a:custGeom>
            <a:avLst/>
            <a:gdLst/>
            <a:ahLst/>
            <a:rect l="l" t="t" r="r" b="b"/>
            <a:pathLst>
              <a:path w="2520280" h="1296144">
                <a:moveTo>
                  <a:pt x="0" y="138232"/>
                </a:moveTo>
                <a:cubicBezTo>
                  <a:pt x="0" y="101571"/>
                  <a:pt x="14564" y="66411"/>
                  <a:pt x="40487" y="40487"/>
                </a:cubicBezTo>
                <a:cubicBezTo>
                  <a:pt x="66411" y="14563"/>
                  <a:pt x="101570" y="0"/>
                  <a:pt x="138232" y="0"/>
                </a:cubicBezTo>
                <a:lnTo>
                  <a:pt x="2382048" y="0"/>
                </a:lnTo>
                <a:cubicBezTo>
                  <a:pt x="2418709" y="0"/>
                  <a:pt x="2453869" y="14564"/>
                  <a:pt x="2479793" y="40487"/>
                </a:cubicBezTo>
                <a:cubicBezTo>
                  <a:pt x="2505717" y="66411"/>
                  <a:pt x="2520280" y="101570"/>
                  <a:pt x="2520280" y="138232"/>
                </a:cubicBezTo>
                <a:lnTo>
                  <a:pt x="2520280" y="1013896"/>
                </a:lnTo>
                <a:cubicBezTo>
                  <a:pt x="2520280" y="1050557"/>
                  <a:pt x="2505716" y="1085717"/>
                  <a:pt x="2479793" y="1111641"/>
                </a:cubicBezTo>
                <a:cubicBezTo>
                  <a:pt x="2453869" y="1137565"/>
                  <a:pt x="2398734" y="1151529"/>
                  <a:pt x="2382048" y="1152128"/>
                </a:cubicBezTo>
                <a:lnTo>
                  <a:pt x="1404156" y="1152128"/>
                </a:lnTo>
                <a:lnTo>
                  <a:pt x="1260140" y="1296144"/>
                </a:lnTo>
                <a:lnTo>
                  <a:pt x="1115325" y="1146266"/>
                </a:lnTo>
                <a:lnTo>
                  <a:pt x="138232" y="1152128"/>
                </a:lnTo>
                <a:cubicBezTo>
                  <a:pt x="101571" y="1152128"/>
                  <a:pt x="66411" y="1137564"/>
                  <a:pt x="40487" y="1111641"/>
                </a:cubicBezTo>
                <a:cubicBezTo>
                  <a:pt x="14563" y="1085717"/>
                  <a:pt x="0" y="1050558"/>
                  <a:pt x="0" y="1013896"/>
                </a:cubicBezTo>
                <a:lnTo>
                  <a:pt x="0" y="138232"/>
                </a:lnTo>
                <a:close/>
              </a:path>
            </a:pathLst>
          </a:custGeom>
          <a:noFill/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3C493-C56A-4F52-B6E1-71016502DDC7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5"/>
          <p:cNvSpPr/>
          <p:nvPr/>
        </p:nvSpPr>
        <p:spPr>
          <a:xfrm>
            <a:off x="431640" y="444600"/>
            <a:ext cx="504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  "/>
                <a:ea typeface="Arial"/>
              </a:rPr>
              <a:t>ПРОГРАММА «ГАРАНТ СБЫ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692360" y="1989000"/>
          <a:ext cx="5761080" cy="3672000"/>
        </p:xfrm>
        <a:graphic>
          <a:graphicData uri="http://schemas.openxmlformats.org/drawingml/2006/table">
            <a:tbl>
              <a:tblPr/>
              <a:tblGrid>
                <a:gridCol w="3814560"/>
                <a:gridCol w="1946520"/>
              </a:tblGrid>
              <a:tr h="503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   "/>
                        </a:rPr>
                        <a:t>Населенные пунк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   "/>
                        </a:rPr>
                        <a:t>Площадь объектов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   "/>
                        </a:rPr>
                        <a:t>кв. 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</a:tr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Введено в эксплуатацию в 2014 год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г. Ханты-Мансийс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10 974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360" rIns="9360" tIns="936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г. Сургу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22 001,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Всего в 2014 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32 975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683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В рамках программы «Стимул»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80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ОАО «Агентство финансирования жилищного строительства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г. Нижневартовс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9 341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9360" rIns="9360" tIns="936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г. Ханты-Мансийс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2 841,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г. Нефтеюганс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3 562,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360" rIns="9360" tIns="936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Всего в 2014 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15 745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95280">
                <a:tc>
                  <a:txBody>
                    <a:bodyPr lIns="9360" rIns="9360" tIns="9360" bIns="0" anchor="ctr">
                      <a:noAutofit/>
                    </a:bodyPr>
                    <a:p>
                      <a:pPr marL="1080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ИТО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c4bd9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  "/>
                        </a:rPr>
                        <a:t>48 720,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c4bd97"/>
                    </a:solidFill>
                  </a:tcPr>
                </a:tc>
              </a:tr>
            </a:tbl>
          </a:graphicData>
        </a:graphic>
      </p:graphicFrame>
      <p:sp>
        <p:nvSpPr>
          <p:cNvPr id="243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C909-7915-44EF-AD1E-3FAA99AD0C01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7" descr="Z:\Отдел Маркетинга\Журнал\38 номер\Нефтеюганск\Арендный дом_Нефтеюганск3\DSC08212.jpg"/>
          <p:cNvPicPr/>
          <p:nvPr/>
        </p:nvPicPr>
        <p:blipFill>
          <a:blip r:embed="rId2"/>
          <a:stretch/>
        </p:blipFill>
        <p:spPr>
          <a:xfrm>
            <a:off x="431640" y="2313000"/>
            <a:ext cx="4861080" cy="32288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431640" y="1628640"/>
            <a:ext cx="5040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емный (арендный) 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 г. Нефтеюганск, 11Б мкр., ул. Школьная, дом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77EE7-A226-4037-ADB8-1D25C6BD13AA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0"/>
          <p:cNvSpPr/>
          <p:nvPr/>
        </p:nvSpPr>
        <p:spPr>
          <a:xfrm>
            <a:off x="6335640" y="1989000"/>
            <a:ext cx="2052720" cy="38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е количество квартир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площадь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 684,25 кв. 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оимость объек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 учетом видеонаблю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мебели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43 274,8 тыс.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оимость 1 кв. 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1,94 тыс.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стоимость аренды 1 кв. м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93,79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431640" y="262800"/>
            <a:ext cx="2627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РАЗВИТИЕ РЫ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АРЕНДНОГО ЖИЛ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олилиния 7"/>
          <p:cNvSpPr/>
          <p:nvPr/>
        </p:nvSpPr>
        <p:spPr>
          <a:xfrm flipV="1">
            <a:off x="5543640" y="1628280"/>
            <a:ext cx="2916000" cy="4572000"/>
          </a:xfrm>
          <a:custGeom>
            <a:avLst/>
            <a:gdLst/>
            <a:ahLst/>
            <a:rect l="l" t="t" r="r" b="b"/>
            <a:pathLst>
              <a:path w="2916323" h="4572558">
                <a:moveTo>
                  <a:pt x="468051" y="172530"/>
                </a:moveTo>
                <a:cubicBezTo>
                  <a:pt x="468051" y="126772"/>
                  <a:pt x="486228" y="82889"/>
                  <a:pt x="518584" y="50533"/>
                </a:cubicBezTo>
                <a:cubicBezTo>
                  <a:pt x="550940" y="18177"/>
                  <a:pt x="594823" y="0"/>
                  <a:pt x="640581" y="0"/>
                </a:cubicBezTo>
                <a:lnTo>
                  <a:pt x="2743793" y="0"/>
                </a:lnTo>
                <a:cubicBezTo>
                  <a:pt x="2789551" y="0"/>
                  <a:pt x="2833434" y="18177"/>
                  <a:pt x="2865790" y="50533"/>
                </a:cubicBezTo>
                <a:cubicBezTo>
                  <a:pt x="2898146" y="82889"/>
                  <a:pt x="2916323" y="126772"/>
                  <a:pt x="2916323" y="172530"/>
                </a:cubicBezTo>
                <a:lnTo>
                  <a:pt x="2916323" y="4400028"/>
                </a:lnTo>
                <a:cubicBezTo>
                  <a:pt x="2916323" y="4445786"/>
                  <a:pt x="2898146" y="4489670"/>
                  <a:pt x="2865790" y="4522025"/>
                </a:cubicBezTo>
                <a:cubicBezTo>
                  <a:pt x="2833434" y="4554381"/>
                  <a:pt x="2789551" y="4572558"/>
                  <a:pt x="2743793" y="4572558"/>
                </a:cubicBezTo>
                <a:lnTo>
                  <a:pt x="640581" y="4572558"/>
                </a:lnTo>
                <a:cubicBezTo>
                  <a:pt x="594823" y="4572558"/>
                  <a:pt x="550939" y="4554381"/>
                  <a:pt x="518584" y="4522025"/>
                </a:cubicBezTo>
                <a:cubicBezTo>
                  <a:pt x="486228" y="4489669"/>
                  <a:pt x="476040" y="4475592"/>
                  <a:pt x="468051" y="4400028"/>
                </a:cubicBezTo>
                <a:cubicBezTo>
                  <a:pt x="468917" y="4289565"/>
                  <a:pt x="469784" y="4179103"/>
                  <a:pt x="470650" y="4068640"/>
                </a:cubicBezTo>
                <a:cubicBezTo>
                  <a:pt x="466981" y="4057109"/>
                  <a:pt x="16994" y="4066661"/>
                  <a:pt x="0" y="4068477"/>
                </a:cubicBezTo>
                <a:cubicBezTo>
                  <a:pt x="2563" y="4051045"/>
                  <a:pt x="456931" y="3626244"/>
                  <a:pt x="465624" y="3611440"/>
                </a:cubicBezTo>
                <a:lnTo>
                  <a:pt x="468051" y="172530"/>
                </a:lnTo>
                <a:close/>
              </a:path>
            </a:pathLst>
          </a:custGeom>
          <a:noFill/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Прямоугольник 8"/>
          <p:cNvSpPr/>
          <p:nvPr/>
        </p:nvSpPr>
        <p:spPr>
          <a:xfrm>
            <a:off x="431640" y="5877000"/>
            <a:ext cx="4572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чало засел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III квартал 2014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4"/>
          <p:cNvSpPr/>
          <p:nvPr/>
        </p:nvSpPr>
        <p:spPr>
          <a:xfrm>
            <a:off x="431640" y="1628640"/>
            <a:ext cx="4392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емный (арендный) 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 г. Ханты-Мансийск, ул. Югорская, дом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7" descr="Z:\Отдел Маркетинга\Журнал\Презентации ИАЮ\2015\home-photo3.png"/>
          <p:cNvPicPr/>
          <p:nvPr/>
        </p:nvPicPr>
        <p:blipFill>
          <a:blip r:embed="rId2"/>
          <a:stretch/>
        </p:blipFill>
        <p:spPr>
          <a:xfrm>
            <a:off x="431640" y="2313000"/>
            <a:ext cx="4551480" cy="34196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1032-EF8D-4289-B25A-6EBFE92A689B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6300720" y="1989000"/>
            <a:ext cx="1979640" cy="38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е количество квартир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площадь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 511,60 кв. 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оимость объек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 учетом видеонаблюдения и мебели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64 326,10 тыс.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оимость 1 кв. 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8,90 тыс.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стоимость аренды 1 кв. м.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36,20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431640" y="262800"/>
            <a:ext cx="298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РАЗВИТИЕ РЫ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АРЕНДНОГО ЖИ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олилиния 7"/>
          <p:cNvSpPr/>
          <p:nvPr/>
        </p:nvSpPr>
        <p:spPr>
          <a:xfrm flipV="1">
            <a:off x="5543640" y="1628280"/>
            <a:ext cx="2916000" cy="4572000"/>
          </a:xfrm>
          <a:custGeom>
            <a:avLst/>
            <a:gdLst/>
            <a:ahLst/>
            <a:rect l="l" t="t" r="r" b="b"/>
            <a:pathLst>
              <a:path w="2916323" h="4572558">
                <a:moveTo>
                  <a:pt x="468051" y="172530"/>
                </a:moveTo>
                <a:cubicBezTo>
                  <a:pt x="468051" y="126772"/>
                  <a:pt x="486228" y="82889"/>
                  <a:pt x="518584" y="50533"/>
                </a:cubicBezTo>
                <a:cubicBezTo>
                  <a:pt x="550940" y="18177"/>
                  <a:pt x="594823" y="0"/>
                  <a:pt x="640581" y="0"/>
                </a:cubicBezTo>
                <a:lnTo>
                  <a:pt x="2743793" y="0"/>
                </a:lnTo>
                <a:cubicBezTo>
                  <a:pt x="2789551" y="0"/>
                  <a:pt x="2833434" y="18177"/>
                  <a:pt x="2865790" y="50533"/>
                </a:cubicBezTo>
                <a:cubicBezTo>
                  <a:pt x="2898146" y="82889"/>
                  <a:pt x="2916323" y="126772"/>
                  <a:pt x="2916323" y="172530"/>
                </a:cubicBezTo>
                <a:lnTo>
                  <a:pt x="2916323" y="4400028"/>
                </a:lnTo>
                <a:cubicBezTo>
                  <a:pt x="2916323" y="4445786"/>
                  <a:pt x="2898146" y="4489670"/>
                  <a:pt x="2865790" y="4522025"/>
                </a:cubicBezTo>
                <a:cubicBezTo>
                  <a:pt x="2833434" y="4554381"/>
                  <a:pt x="2789551" y="4572558"/>
                  <a:pt x="2743793" y="4572558"/>
                </a:cubicBezTo>
                <a:lnTo>
                  <a:pt x="640581" y="4572558"/>
                </a:lnTo>
                <a:cubicBezTo>
                  <a:pt x="594823" y="4572558"/>
                  <a:pt x="550939" y="4554381"/>
                  <a:pt x="518584" y="4522025"/>
                </a:cubicBezTo>
                <a:cubicBezTo>
                  <a:pt x="486228" y="4489669"/>
                  <a:pt x="476040" y="4475592"/>
                  <a:pt x="468051" y="4400028"/>
                </a:cubicBezTo>
                <a:cubicBezTo>
                  <a:pt x="468917" y="4289565"/>
                  <a:pt x="469784" y="4179103"/>
                  <a:pt x="470650" y="4068640"/>
                </a:cubicBezTo>
                <a:cubicBezTo>
                  <a:pt x="466981" y="4057109"/>
                  <a:pt x="16994" y="4066661"/>
                  <a:pt x="0" y="4068477"/>
                </a:cubicBezTo>
                <a:cubicBezTo>
                  <a:pt x="2563" y="4051045"/>
                  <a:pt x="456931" y="3626244"/>
                  <a:pt x="465624" y="3611440"/>
                </a:cubicBezTo>
                <a:lnTo>
                  <a:pt x="468051" y="172530"/>
                </a:lnTo>
                <a:close/>
              </a:path>
            </a:pathLst>
          </a:custGeom>
          <a:noFill/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8"/>
          <p:cNvSpPr/>
          <p:nvPr/>
        </p:nvSpPr>
        <p:spPr>
          <a:xfrm>
            <a:off x="431640" y="5877000"/>
            <a:ext cx="2268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чало засел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вартал 2015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6"/>
          <p:cNvSpPr/>
          <p:nvPr/>
        </p:nvSpPr>
        <p:spPr>
          <a:xfrm>
            <a:off x="431640" y="262800"/>
            <a:ext cx="3132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РАЗВИТИЕ РЫ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АРЕНДНОГО ЖИЛ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8" descr="Z:\Отдел Маркетинга\Журнал\38 номер\Взлетный\19-08-2014_08-15-29\IMG_7316.jpg"/>
          <p:cNvPicPr/>
          <p:nvPr/>
        </p:nvPicPr>
        <p:blipFill>
          <a:blip r:embed="rId2"/>
          <a:srcRect l="10715" t="10715" r="5950" b="7134"/>
          <a:stretch/>
        </p:blipFill>
        <p:spPr>
          <a:xfrm>
            <a:off x="431640" y="2313000"/>
            <a:ext cx="4861080" cy="3195720"/>
          </a:xfrm>
          <a:prstGeom prst="rect">
            <a:avLst/>
          </a:prstGeom>
          <a:ln w="0">
            <a:noFill/>
          </a:ln>
        </p:spPr>
      </p:pic>
      <p:sp>
        <p:nvSpPr>
          <p:cNvPr id="260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CCFE-DDDD-43B7-A033-A16EAE504E04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0"/>
          <p:cNvSpPr/>
          <p:nvPr/>
        </p:nvSpPr>
        <p:spPr>
          <a:xfrm>
            <a:off x="6335640" y="1989000"/>
            <a:ext cx="1908360" cy="38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е количество квартир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площадь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 812,80 кв. 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оимость объек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 учетом видеонаблю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мебели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61 765,7 тыс.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оимость 1 кв. 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9,10 тыс.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стоимость аренды 1 кв. м.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82,46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5"/>
          <p:cNvSpPr/>
          <p:nvPr/>
        </p:nvSpPr>
        <p:spPr>
          <a:xfrm>
            <a:off x="431640" y="1628640"/>
            <a:ext cx="5148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емный (арендный) 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 г. Сургут, 30 мкр., ул. Ивана Захарова, дом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олилиния 6"/>
          <p:cNvSpPr/>
          <p:nvPr/>
        </p:nvSpPr>
        <p:spPr>
          <a:xfrm flipV="1">
            <a:off x="5543640" y="1628280"/>
            <a:ext cx="2916000" cy="4572000"/>
          </a:xfrm>
          <a:custGeom>
            <a:avLst/>
            <a:gdLst/>
            <a:ahLst/>
            <a:rect l="l" t="t" r="r" b="b"/>
            <a:pathLst>
              <a:path w="2916323" h="4572558">
                <a:moveTo>
                  <a:pt x="468051" y="172530"/>
                </a:moveTo>
                <a:cubicBezTo>
                  <a:pt x="468051" y="126772"/>
                  <a:pt x="486228" y="82889"/>
                  <a:pt x="518584" y="50533"/>
                </a:cubicBezTo>
                <a:cubicBezTo>
                  <a:pt x="550940" y="18177"/>
                  <a:pt x="594823" y="0"/>
                  <a:pt x="640581" y="0"/>
                </a:cubicBezTo>
                <a:lnTo>
                  <a:pt x="2743793" y="0"/>
                </a:lnTo>
                <a:cubicBezTo>
                  <a:pt x="2789551" y="0"/>
                  <a:pt x="2833434" y="18177"/>
                  <a:pt x="2865790" y="50533"/>
                </a:cubicBezTo>
                <a:cubicBezTo>
                  <a:pt x="2898146" y="82889"/>
                  <a:pt x="2916323" y="126772"/>
                  <a:pt x="2916323" y="172530"/>
                </a:cubicBezTo>
                <a:lnTo>
                  <a:pt x="2916323" y="4400028"/>
                </a:lnTo>
                <a:cubicBezTo>
                  <a:pt x="2916323" y="4445786"/>
                  <a:pt x="2898146" y="4489670"/>
                  <a:pt x="2865790" y="4522025"/>
                </a:cubicBezTo>
                <a:cubicBezTo>
                  <a:pt x="2833434" y="4554381"/>
                  <a:pt x="2789551" y="4572558"/>
                  <a:pt x="2743793" y="4572558"/>
                </a:cubicBezTo>
                <a:lnTo>
                  <a:pt x="640581" y="4572558"/>
                </a:lnTo>
                <a:cubicBezTo>
                  <a:pt x="594823" y="4572558"/>
                  <a:pt x="550939" y="4554381"/>
                  <a:pt x="518584" y="4522025"/>
                </a:cubicBezTo>
                <a:cubicBezTo>
                  <a:pt x="486228" y="4489669"/>
                  <a:pt x="476040" y="4475592"/>
                  <a:pt x="468051" y="4400028"/>
                </a:cubicBezTo>
                <a:cubicBezTo>
                  <a:pt x="468917" y="4289565"/>
                  <a:pt x="469784" y="4179103"/>
                  <a:pt x="470650" y="4068640"/>
                </a:cubicBezTo>
                <a:cubicBezTo>
                  <a:pt x="466981" y="4057109"/>
                  <a:pt x="16994" y="4066661"/>
                  <a:pt x="0" y="4068477"/>
                </a:cubicBezTo>
                <a:cubicBezTo>
                  <a:pt x="2563" y="4051045"/>
                  <a:pt x="456931" y="3626244"/>
                  <a:pt x="465624" y="3611440"/>
                </a:cubicBezTo>
                <a:lnTo>
                  <a:pt x="468051" y="172530"/>
                </a:lnTo>
                <a:close/>
              </a:path>
            </a:pathLst>
          </a:custGeom>
          <a:noFill/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7"/>
          <p:cNvSpPr/>
          <p:nvPr/>
        </p:nvSpPr>
        <p:spPr>
          <a:xfrm>
            <a:off x="431640" y="5877000"/>
            <a:ext cx="45720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чало засел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вартал 2015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4"/>
          <p:cNvSpPr/>
          <p:nvPr/>
        </p:nvSpPr>
        <p:spPr>
          <a:xfrm>
            <a:off x="431640" y="1628640"/>
            <a:ext cx="34560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Наемный (арендный) д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в г. Сургут, 45 мкр., дом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4586-176A-4B81-AFA0-6378BC5A5167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0"/>
          <p:cNvSpPr/>
          <p:nvPr/>
        </p:nvSpPr>
        <p:spPr>
          <a:xfrm>
            <a:off x="6335640" y="1989000"/>
            <a:ext cx="1944720" cy="38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е количество квартир: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площадь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 744,70 кв. 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оимость объек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с учетом видеонаблюде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мебели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48 751,5 тыс.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оимость 1 кв. 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8,75 тыс.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редняя стоимость аренды 1 кв. м.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45,26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431640" y="262800"/>
            <a:ext cx="280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РАЗВИТИЕ РЫ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АРЕНДНОГО ЖИЛЬ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олилиния 5"/>
          <p:cNvSpPr/>
          <p:nvPr/>
        </p:nvSpPr>
        <p:spPr>
          <a:xfrm flipV="1">
            <a:off x="5543640" y="1628280"/>
            <a:ext cx="2916000" cy="4572000"/>
          </a:xfrm>
          <a:custGeom>
            <a:avLst/>
            <a:gdLst/>
            <a:ahLst/>
            <a:rect l="l" t="t" r="r" b="b"/>
            <a:pathLst>
              <a:path w="2916323" h="4572558">
                <a:moveTo>
                  <a:pt x="468051" y="172530"/>
                </a:moveTo>
                <a:cubicBezTo>
                  <a:pt x="468051" y="126772"/>
                  <a:pt x="486228" y="82889"/>
                  <a:pt x="518584" y="50533"/>
                </a:cubicBezTo>
                <a:cubicBezTo>
                  <a:pt x="550940" y="18177"/>
                  <a:pt x="594823" y="0"/>
                  <a:pt x="640581" y="0"/>
                </a:cubicBezTo>
                <a:lnTo>
                  <a:pt x="2743793" y="0"/>
                </a:lnTo>
                <a:cubicBezTo>
                  <a:pt x="2789551" y="0"/>
                  <a:pt x="2833434" y="18177"/>
                  <a:pt x="2865790" y="50533"/>
                </a:cubicBezTo>
                <a:cubicBezTo>
                  <a:pt x="2898146" y="82889"/>
                  <a:pt x="2916323" y="126772"/>
                  <a:pt x="2916323" y="172530"/>
                </a:cubicBezTo>
                <a:lnTo>
                  <a:pt x="2916323" y="4400028"/>
                </a:lnTo>
                <a:cubicBezTo>
                  <a:pt x="2916323" y="4445786"/>
                  <a:pt x="2898146" y="4489670"/>
                  <a:pt x="2865790" y="4522025"/>
                </a:cubicBezTo>
                <a:cubicBezTo>
                  <a:pt x="2833434" y="4554381"/>
                  <a:pt x="2789551" y="4572558"/>
                  <a:pt x="2743793" y="4572558"/>
                </a:cubicBezTo>
                <a:lnTo>
                  <a:pt x="640581" y="4572558"/>
                </a:lnTo>
                <a:cubicBezTo>
                  <a:pt x="594823" y="4572558"/>
                  <a:pt x="550939" y="4554381"/>
                  <a:pt x="518584" y="4522025"/>
                </a:cubicBezTo>
                <a:cubicBezTo>
                  <a:pt x="486228" y="4489669"/>
                  <a:pt x="476040" y="4475592"/>
                  <a:pt x="468051" y="4400028"/>
                </a:cubicBezTo>
                <a:cubicBezTo>
                  <a:pt x="468917" y="4289565"/>
                  <a:pt x="469784" y="4179103"/>
                  <a:pt x="470650" y="4068640"/>
                </a:cubicBezTo>
                <a:cubicBezTo>
                  <a:pt x="466981" y="4057109"/>
                  <a:pt x="16994" y="4066661"/>
                  <a:pt x="0" y="4068477"/>
                </a:cubicBezTo>
                <a:cubicBezTo>
                  <a:pt x="2563" y="4051045"/>
                  <a:pt x="456931" y="3626244"/>
                  <a:pt x="465624" y="3611440"/>
                </a:cubicBezTo>
                <a:lnTo>
                  <a:pt x="468051" y="172530"/>
                </a:lnTo>
                <a:close/>
              </a:path>
            </a:pathLst>
          </a:custGeom>
          <a:noFill/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5" descr="Z:\Отдел Маркетинга\Журнал\Презентации ИАЮ\2015\Рисунок1.jpg"/>
          <p:cNvPicPr/>
          <p:nvPr/>
        </p:nvPicPr>
        <p:blipFill>
          <a:blip r:embed="rId2"/>
          <a:srcRect l="4970" t="6428" r="0" b="8527"/>
          <a:stretch/>
        </p:blipFill>
        <p:spPr>
          <a:xfrm>
            <a:off x="431640" y="2313000"/>
            <a:ext cx="3564000" cy="388764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8"/>
          <p:cNvSpPr/>
          <p:nvPr/>
        </p:nvSpPr>
        <p:spPr>
          <a:xfrm>
            <a:off x="4140360" y="5769000"/>
            <a:ext cx="1763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чало заселения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квартал 20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1692360" y="1989000"/>
          <a:ext cx="6264360" cy="2340000"/>
        </p:xfrm>
        <a:graphic>
          <a:graphicData uri="http://schemas.openxmlformats.org/drawingml/2006/table">
            <a:tbl>
              <a:tblPr/>
              <a:tblGrid>
                <a:gridCol w="2778120"/>
                <a:gridCol w="1743120"/>
                <a:gridCol w="1743120"/>
              </a:tblGrid>
              <a:tr h="625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 РСБУ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тыс. 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о МСФ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(тыс. 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кти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1e1c11"/>
                      </a:solidFill>
                    </a:lnR>
                    <a:lnT>
                      <a:noFill/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526 094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1e1c11"/>
                      </a:solidFill>
                    </a:lnL>
                    <a:lnR w="5760">
                      <a:solidFill>
                        <a:srgbClr val="1e1c11"/>
                      </a:solidFill>
                    </a:lnR>
                    <a:lnT>
                      <a:noFill/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291 918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1e1c11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язатель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1e1c11"/>
                      </a:solidFill>
                    </a:lnR>
                    <a:lnT w="5760">
                      <a:solidFill>
                        <a:srgbClr val="1e1c11"/>
                      </a:solidFill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7 672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1e1c11"/>
                      </a:solidFill>
                    </a:lnL>
                    <a:lnR w="5760">
                      <a:solidFill>
                        <a:srgbClr val="1e1c11"/>
                      </a:solidFill>
                    </a:lnR>
                    <a:lnT w="5760">
                      <a:solidFill>
                        <a:srgbClr val="1e1c11"/>
                      </a:solidFill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12 534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1e1c11"/>
                      </a:solidFill>
                    </a:lnL>
                    <a:lnR>
                      <a:noFill/>
                    </a:lnR>
                    <a:lnT w="5760">
                      <a:solidFill>
                        <a:srgbClr val="1e1c11"/>
                      </a:solidFill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3624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ыру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1e1c11"/>
                      </a:solidFill>
                    </a:lnR>
                    <a:lnT w="5760">
                      <a:solidFill>
                        <a:srgbClr val="1e1c11"/>
                      </a:solidFill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182 445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1e1c11"/>
                      </a:solidFill>
                    </a:lnL>
                    <a:lnR w="5760">
                      <a:solidFill>
                        <a:srgbClr val="1e1c11"/>
                      </a:solidFill>
                    </a:lnR>
                    <a:lnT w="5760">
                      <a:solidFill>
                        <a:srgbClr val="1e1c11"/>
                      </a:solidFill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 662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1e1c11"/>
                      </a:solidFill>
                    </a:lnL>
                    <a:lnR>
                      <a:noFill/>
                    </a:lnR>
                    <a:lnT w="5760">
                      <a:solidFill>
                        <a:srgbClr val="1e1c11"/>
                      </a:solidFill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ибыль до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1e1c11"/>
                      </a:solidFill>
                    </a:lnR>
                    <a:lnT w="5760">
                      <a:solidFill>
                        <a:srgbClr val="1e1c11"/>
                      </a:solidFill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7 922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1e1c11"/>
                      </a:solidFill>
                    </a:lnL>
                    <a:lnR w="5760">
                      <a:solidFill>
                        <a:srgbClr val="1e1c11"/>
                      </a:solidFill>
                    </a:lnR>
                    <a:lnT w="5760">
                      <a:solidFill>
                        <a:srgbClr val="1e1c11"/>
                      </a:solidFill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1 271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1e1c11"/>
                      </a:solidFill>
                    </a:lnL>
                    <a:lnR>
                      <a:noFill/>
                    </a:lnR>
                    <a:lnT w="5760">
                      <a:solidFill>
                        <a:srgbClr val="1e1c11"/>
                      </a:solidFill>
                    </a:lnT>
                    <a:lnB w="5760">
                      <a:solidFill>
                        <a:srgbClr val="1e1c11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ctr">
                      <a:noAutofit/>
                    </a:bodyPr>
                    <a:p>
                      <a:pPr marL="712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прибы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1e1c11"/>
                      </a:solidFill>
                    </a:lnR>
                    <a:lnT w="5760">
                      <a:solidFill>
                        <a:srgbClr val="1e1c11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8 940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1e1c11"/>
                      </a:solidFill>
                    </a:lnL>
                    <a:lnR w="5760">
                      <a:solidFill>
                        <a:srgbClr val="1e1c11"/>
                      </a:solidFill>
                    </a:lnR>
                    <a:lnT w="5760">
                      <a:solidFill>
                        <a:srgbClr val="1e1c11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 605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1e1c11"/>
                      </a:solidFill>
                    </a:lnL>
                    <a:lnR>
                      <a:noFill/>
                    </a:lnR>
                    <a:lnT w="5760">
                      <a:solidFill>
                        <a:srgbClr val="1e1c11"/>
                      </a:solidFill>
                    </a:lnT>
                    <a:lnB w="13680">
                      <a:solidFill>
                        <a:srgbClr val="0070c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273" name="Прямоугольник 8"/>
          <p:cNvSpPr/>
          <p:nvPr/>
        </p:nvSpPr>
        <p:spPr>
          <a:xfrm>
            <a:off x="431640" y="260280"/>
            <a:ext cx="5113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ПОКАЗАТЕЛИ ФИНАНСОВОЙ ОТЧЕТНОСТИ НА 31.12.2014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B303-D6F0-4CFB-B5CF-64ED9AF75B7B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C238-220F-4EAA-BF2C-655759B7D5E7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6"/>
          <p:cNvSpPr/>
          <p:nvPr/>
        </p:nvSpPr>
        <p:spPr>
          <a:xfrm>
            <a:off x="4645080" y="2341440"/>
            <a:ext cx="190800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66"/>
          <p:cNvSpPr/>
          <p:nvPr/>
        </p:nvSpPr>
        <p:spPr>
          <a:xfrm>
            <a:off x="6696000" y="3852720"/>
            <a:ext cx="1908360" cy="245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6"/>
          <p:cNvSpPr/>
          <p:nvPr/>
        </p:nvSpPr>
        <p:spPr>
          <a:xfrm>
            <a:off x="431640" y="3852720"/>
            <a:ext cx="1908360" cy="245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31640" y="260280"/>
            <a:ext cx="8423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"/>
              </a:rPr>
              <a:t>ОСНОВНЫЕ НАПРАВЛЕНИЯ 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"/>
              </a:rPr>
              <a:t>ОАО «ИПОТЕЧНОЕ АГЕНТСТВО ЮГРЫ» В 2014 Г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66"/>
          <p:cNvSpPr/>
          <p:nvPr/>
        </p:nvSpPr>
        <p:spPr>
          <a:xfrm>
            <a:off x="431640" y="2341440"/>
            <a:ext cx="1908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250920" y="2484360"/>
            <a:ext cx="230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ЧАСТ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 РЕАЛИЗАЦИИ ОКРУЖНОЙ ЖИЛИЩНО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6"/>
          <p:cNvSpPr/>
          <p:nvPr/>
        </p:nvSpPr>
        <p:spPr>
          <a:xfrm>
            <a:off x="6696000" y="2341440"/>
            <a:ext cx="1908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10"/>
          <p:cNvSpPr/>
          <p:nvPr/>
        </p:nvSpPr>
        <p:spPr>
          <a:xfrm>
            <a:off x="6750000" y="2592360"/>
            <a:ext cx="189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Е РЫНКА АРЕНДНОГО ЖИЛ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4"/>
          <p:cNvSpPr/>
          <p:nvPr/>
        </p:nvSpPr>
        <p:spPr>
          <a:xfrm>
            <a:off x="684360" y="3952800"/>
            <a:ext cx="172692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азание консульт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танов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уч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остав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осподдержки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орме субсид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компенсации части процентной ста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17"/>
          <p:cNvSpPr/>
          <p:nvPr/>
        </p:nvSpPr>
        <p:spPr>
          <a:xfrm>
            <a:off x="6786720" y="3952800"/>
            <a:ext cx="17096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роительство  наемных (арендных) дом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территории Сургут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Ханты-Мансийс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Нефтеюганс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управление и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Прямоугольник 66"/>
          <p:cNvGrpSpPr/>
          <p:nvPr/>
        </p:nvGrpSpPr>
        <p:grpSpPr>
          <a:xfrm>
            <a:off x="512640" y="4029120"/>
            <a:ext cx="212760" cy="208080"/>
            <a:chOff x="512640" y="4029120"/>
            <a:chExt cx="212760" cy="208080"/>
          </a:xfrm>
        </p:grpSpPr>
        <p:pic>
          <p:nvPicPr>
            <p:cNvPr id="62" name="Прямоугольник 66" descr=""/>
            <p:cNvPicPr/>
            <p:nvPr/>
          </p:nvPicPr>
          <p:blipFill>
            <a:blip r:embed="rId2"/>
            <a:stretch/>
          </p:blipFill>
          <p:spPr>
            <a:xfrm>
              <a:off x="512640" y="402912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76360" y="4059360"/>
              <a:ext cx="88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Line 91"/>
          <p:cNvSpPr/>
          <p:nvPr/>
        </p:nvSpPr>
        <p:spPr>
          <a:xfrm>
            <a:off x="1420920" y="3429000"/>
            <a:ext cx="0" cy="39528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1"/>
          <p:cNvSpPr/>
          <p:nvPr/>
        </p:nvSpPr>
        <p:spPr>
          <a:xfrm>
            <a:off x="7740720" y="3429000"/>
            <a:ext cx="0" cy="39528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66"/>
          <p:cNvSpPr/>
          <p:nvPr/>
        </p:nvSpPr>
        <p:spPr>
          <a:xfrm>
            <a:off x="2484360" y="3852720"/>
            <a:ext cx="1908360" cy="245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66"/>
          <p:cNvSpPr/>
          <p:nvPr/>
        </p:nvSpPr>
        <p:spPr>
          <a:xfrm>
            <a:off x="2484360" y="2341440"/>
            <a:ext cx="1908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2502000" y="2592360"/>
            <a:ext cx="19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СЛУГИ НА РЫНКЕ НЕДВИЖ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5"/>
          <p:cNvSpPr/>
          <p:nvPr/>
        </p:nvSpPr>
        <p:spPr>
          <a:xfrm>
            <a:off x="2808360" y="3952800"/>
            <a:ext cx="1530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дажа жилья на первичном рынке, в т.ч. собственног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казание услуг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ипотечному кредит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91"/>
          <p:cNvSpPr/>
          <p:nvPr/>
        </p:nvSpPr>
        <p:spPr>
          <a:xfrm>
            <a:off x="3438360" y="3429000"/>
            <a:ext cx="0" cy="39528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0"/>
          <p:cNvSpPr/>
          <p:nvPr/>
        </p:nvSpPr>
        <p:spPr>
          <a:xfrm>
            <a:off x="4643280" y="2592360"/>
            <a:ext cx="198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«ГАРАНТ СБЫ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66"/>
          <p:cNvSpPr/>
          <p:nvPr/>
        </p:nvSpPr>
        <p:spPr>
          <a:xfrm>
            <a:off x="4645080" y="3852720"/>
            <a:ext cx="1908000" cy="245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15"/>
          <p:cNvSpPr/>
          <p:nvPr/>
        </p:nvSpPr>
        <p:spPr>
          <a:xfrm>
            <a:off x="4824360" y="3952800"/>
            <a:ext cx="1871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оставление гарантий выкупа застройщика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кредиторам про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6"/>
          <p:cNvSpPr/>
          <p:nvPr/>
        </p:nvSpPr>
        <p:spPr>
          <a:xfrm>
            <a:off x="431640" y="1596960"/>
            <a:ext cx="3959280" cy="576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66"/>
          <p:cNvSpPr/>
          <p:nvPr/>
        </p:nvSpPr>
        <p:spPr>
          <a:xfrm>
            <a:off x="4645080" y="1596960"/>
            <a:ext cx="3959280" cy="576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  <a:ea typeface="Arial"/>
              </a:rPr>
              <a:t>Корпоративный бл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6"/>
          <p:cNvSpPr/>
          <p:nvPr/>
        </p:nvSpPr>
        <p:spPr>
          <a:xfrm>
            <a:off x="360360" y="1700280"/>
            <a:ext cx="403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70c0"/>
                </a:solidFill>
                <a:latin typeface="Arial"/>
              </a:rPr>
              <a:t>Розничный блок «Единое окн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1"/>
          <p:cNvSpPr/>
          <p:nvPr/>
        </p:nvSpPr>
        <p:spPr>
          <a:xfrm>
            <a:off x="5634000" y="3429000"/>
            <a:ext cx="0" cy="395280"/>
          </a:xfrm>
          <a:prstGeom prst="line">
            <a:avLst/>
          </a:prstGeom>
          <a:ln w="28440">
            <a:solidFill>
              <a:srgbClr val="007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Прямоугольник 66"/>
          <p:cNvGrpSpPr/>
          <p:nvPr/>
        </p:nvGrpSpPr>
        <p:grpSpPr>
          <a:xfrm>
            <a:off x="512640" y="4522680"/>
            <a:ext cx="212760" cy="208080"/>
            <a:chOff x="512640" y="4522680"/>
            <a:chExt cx="212760" cy="208080"/>
          </a:xfrm>
        </p:grpSpPr>
        <p:pic>
          <p:nvPicPr>
            <p:cNvPr id="79" name="Прямоугольник 66" descr=""/>
            <p:cNvPicPr/>
            <p:nvPr/>
          </p:nvPicPr>
          <p:blipFill>
            <a:blip r:embed="rId3"/>
            <a:stretch/>
          </p:blipFill>
          <p:spPr>
            <a:xfrm>
              <a:off x="512640" y="452268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76360" y="4554360"/>
              <a:ext cx="8892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Прямоугольник 66"/>
          <p:cNvGrpSpPr/>
          <p:nvPr/>
        </p:nvGrpSpPr>
        <p:grpSpPr>
          <a:xfrm>
            <a:off x="512640" y="5016600"/>
            <a:ext cx="212760" cy="207720"/>
            <a:chOff x="512640" y="5016600"/>
            <a:chExt cx="212760" cy="207720"/>
          </a:xfrm>
        </p:grpSpPr>
        <p:pic>
          <p:nvPicPr>
            <p:cNvPr id="82" name="Прямоугольник 66" descr=""/>
            <p:cNvPicPr/>
            <p:nvPr/>
          </p:nvPicPr>
          <p:blipFill>
            <a:blip r:embed="rId4"/>
            <a:stretch/>
          </p:blipFill>
          <p:spPr>
            <a:xfrm>
              <a:off x="512640" y="5016600"/>
              <a:ext cx="21276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576360" y="5049720"/>
              <a:ext cx="88920" cy="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Прямоугольник 66"/>
          <p:cNvGrpSpPr/>
          <p:nvPr/>
        </p:nvGrpSpPr>
        <p:grpSpPr>
          <a:xfrm>
            <a:off x="2567160" y="4029120"/>
            <a:ext cx="212400" cy="208080"/>
            <a:chOff x="2567160" y="4029120"/>
            <a:chExt cx="212400" cy="208080"/>
          </a:xfrm>
        </p:grpSpPr>
        <p:pic>
          <p:nvPicPr>
            <p:cNvPr id="85" name="Прямоугольник 66" descr=""/>
            <p:cNvPicPr/>
            <p:nvPr/>
          </p:nvPicPr>
          <p:blipFill>
            <a:blip r:embed="rId5"/>
            <a:stretch/>
          </p:blipFill>
          <p:spPr>
            <a:xfrm>
              <a:off x="2567160" y="4029120"/>
              <a:ext cx="2124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629080" y="4059360"/>
              <a:ext cx="8856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Прямоугольник 66"/>
          <p:cNvGrpSpPr/>
          <p:nvPr/>
        </p:nvGrpSpPr>
        <p:grpSpPr>
          <a:xfrm>
            <a:off x="2567160" y="4943520"/>
            <a:ext cx="212400" cy="208080"/>
            <a:chOff x="2567160" y="4943520"/>
            <a:chExt cx="212400" cy="208080"/>
          </a:xfrm>
        </p:grpSpPr>
        <p:pic>
          <p:nvPicPr>
            <p:cNvPr id="88" name="Прямоугольник 66" descr=""/>
            <p:cNvPicPr/>
            <p:nvPr/>
          </p:nvPicPr>
          <p:blipFill>
            <a:blip r:embed="rId6"/>
            <a:stretch/>
          </p:blipFill>
          <p:spPr>
            <a:xfrm>
              <a:off x="2567160" y="4943520"/>
              <a:ext cx="2124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2629080" y="4976640"/>
              <a:ext cx="88560" cy="9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3"/>
          <p:cNvSpPr/>
          <p:nvPr/>
        </p:nvSpPr>
        <p:spPr>
          <a:xfrm>
            <a:off x="431640" y="260280"/>
            <a:ext cx="8172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СТРАТЕГИЧЕСКИЕ ЦЕЛИ АГЕНТ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ДО 2020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295280" y="1989000"/>
            <a:ext cx="6877080" cy="258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ератор Правительства автономного округа по реализации и сопровождению окружных программ в сфере жилищной политики и жилищного строитель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стижение доли услуги «одного окна» (ипотечный брокер, продажа «первичного жилья») к 2020 году на рынке – 20 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ализация пилотных инвестиционных проектов в 2013–2015 годах по строительству и/или приобретению наемных (арендных) домов в городах Сургуте, Ханты-Мансийске и Нефтеюганске в объеме 27 тыс. кв. мет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 2020 году доля Агентства на рынке арендного жилья, сдаваемого внаем юридическими лицами (бизнес-единицами), – не менее 20 % (от общего объема ввода такого жилья в период 2016–2020 годах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3816360" y="562464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Arial"/>
              </a:rPr>
              <a:t>Стратегия утверждена Советом директоров 31 мая 2013 года (протокол №14) в соответствии с Распоряжением Правительства автономного округа от 24 мая 2013 г. № 247-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ая соединительная линия 12"/>
          <p:cNvSpPr/>
          <p:nvPr/>
        </p:nvSpPr>
        <p:spPr>
          <a:xfrm>
            <a:off x="3816360" y="5695920"/>
            <a:ext cx="0" cy="504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Прямоугольник 66"/>
          <p:cNvGrpSpPr/>
          <p:nvPr/>
        </p:nvGrpSpPr>
        <p:grpSpPr>
          <a:xfrm>
            <a:off x="907920" y="2030400"/>
            <a:ext cx="268560" cy="262080"/>
            <a:chOff x="907920" y="2030400"/>
            <a:chExt cx="268560" cy="262080"/>
          </a:xfrm>
        </p:grpSpPr>
        <p:pic>
          <p:nvPicPr>
            <p:cNvPr id="95" name="Прямоугольник 66" descr=""/>
            <p:cNvPicPr/>
            <p:nvPr/>
          </p:nvPicPr>
          <p:blipFill>
            <a:blip r:embed="rId2"/>
            <a:stretch/>
          </p:blipFill>
          <p:spPr>
            <a:xfrm>
              <a:off x="907920" y="2030400"/>
              <a:ext cx="2685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971640" y="2060640"/>
              <a:ext cx="14436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оугольник 66"/>
          <p:cNvGrpSpPr/>
          <p:nvPr/>
        </p:nvGrpSpPr>
        <p:grpSpPr>
          <a:xfrm>
            <a:off x="907920" y="2610000"/>
            <a:ext cx="268560" cy="255600"/>
            <a:chOff x="907920" y="2610000"/>
            <a:chExt cx="268560" cy="255600"/>
          </a:xfrm>
        </p:grpSpPr>
        <p:pic>
          <p:nvPicPr>
            <p:cNvPr id="98" name="Прямоугольник 66" descr=""/>
            <p:cNvPicPr/>
            <p:nvPr/>
          </p:nvPicPr>
          <p:blipFill>
            <a:blip r:embed="rId3"/>
            <a:stretch/>
          </p:blipFill>
          <p:spPr>
            <a:xfrm>
              <a:off x="907920" y="2610000"/>
              <a:ext cx="268560" cy="2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971640" y="2637000"/>
              <a:ext cx="14436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оугольник 66"/>
          <p:cNvGrpSpPr/>
          <p:nvPr/>
        </p:nvGrpSpPr>
        <p:grpSpPr>
          <a:xfrm>
            <a:off x="907920" y="3181320"/>
            <a:ext cx="268560" cy="263520"/>
            <a:chOff x="907920" y="3181320"/>
            <a:chExt cx="268560" cy="263520"/>
          </a:xfrm>
        </p:grpSpPr>
        <p:pic>
          <p:nvPicPr>
            <p:cNvPr id="101" name="Прямоугольник 66" descr=""/>
            <p:cNvPicPr/>
            <p:nvPr/>
          </p:nvPicPr>
          <p:blipFill>
            <a:blip r:embed="rId4"/>
            <a:stretch/>
          </p:blipFill>
          <p:spPr>
            <a:xfrm>
              <a:off x="907920" y="3181320"/>
              <a:ext cx="26856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71640" y="3213000"/>
              <a:ext cx="14436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Прямоугольник 66"/>
          <p:cNvGrpSpPr/>
          <p:nvPr/>
        </p:nvGrpSpPr>
        <p:grpSpPr>
          <a:xfrm>
            <a:off x="907920" y="3975120"/>
            <a:ext cx="268560" cy="262080"/>
            <a:chOff x="907920" y="3975120"/>
            <a:chExt cx="268560" cy="262080"/>
          </a:xfrm>
        </p:grpSpPr>
        <p:pic>
          <p:nvPicPr>
            <p:cNvPr id="104" name="Прямоугольник 66" descr=""/>
            <p:cNvPicPr/>
            <p:nvPr/>
          </p:nvPicPr>
          <p:blipFill>
            <a:blip r:embed="rId5"/>
            <a:stretch/>
          </p:blipFill>
          <p:spPr>
            <a:xfrm>
              <a:off x="907920" y="3975120"/>
              <a:ext cx="26856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971640" y="4005360"/>
              <a:ext cx="14436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4ACB-3968-4DA2-98A9-8BB82E1CA73D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07" name="Shape 54"/>
          <p:cNvCxnSpPr>
            <a:stCxn id="108" idx="3"/>
            <a:endCxn id="109" idx="0"/>
          </p:cNvCxnSpPr>
          <p:nvPr/>
        </p:nvCxnSpPr>
        <p:spPr>
          <a:xfrm>
            <a:off x="5940000" y="1885680"/>
            <a:ext cx="685080" cy="2305440"/>
          </a:xfrm>
          <a:prstGeom prst="bentConnector2">
            <a:avLst/>
          </a:prstGeom>
          <a:ln w="28440">
            <a:solidFill>
              <a:srgbClr val="ffcc00"/>
            </a:solidFill>
            <a:miter/>
          </a:ln>
        </p:spPr>
      </p:cxnSp>
      <p:sp>
        <p:nvSpPr>
          <p:cNvPr id="110" name="Прямоугольник 66"/>
          <p:cNvSpPr/>
          <p:nvPr/>
        </p:nvSpPr>
        <p:spPr>
          <a:xfrm>
            <a:off x="4824360" y="3038400"/>
            <a:ext cx="360036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Shape 52"/>
          <p:cNvCxnSpPr>
            <a:stCxn id="108" idx="1"/>
            <a:endCxn id="112" idx="0"/>
          </p:cNvCxnSpPr>
          <p:nvPr/>
        </p:nvCxnSpPr>
        <p:spPr>
          <a:xfrm flipV="1" rot="10800000">
            <a:off x="2231280" y="1884600"/>
            <a:ext cx="577080" cy="2305440"/>
          </a:xfrm>
          <a:prstGeom prst="bentConnector2">
            <a:avLst/>
          </a:prstGeom>
          <a:ln w="28440">
            <a:solidFill>
              <a:srgbClr val="ffcc00"/>
            </a:solidFill>
            <a:miter/>
          </a:ln>
        </p:spPr>
      </p:cxnSp>
      <p:sp>
        <p:nvSpPr>
          <p:cNvPr id="113" name="Прямоугольник 66"/>
          <p:cNvSpPr/>
          <p:nvPr/>
        </p:nvSpPr>
        <p:spPr>
          <a:xfrm>
            <a:off x="431640" y="3038400"/>
            <a:ext cx="3600720" cy="792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66"/>
          <p:cNvSpPr/>
          <p:nvPr/>
        </p:nvSpPr>
        <p:spPr>
          <a:xfrm>
            <a:off x="2808360" y="1598760"/>
            <a:ext cx="3132000" cy="576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1280" y="259920"/>
            <a:ext cx="534852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ЕРСПЕКТИВЫ РАЗВИТИ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ГЕНТ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право 46"/>
          <p:cNvSpPr/>
          <p:nvPr/>
        </p:nvSpPr>
        <p:spPr>
          <a:xfrm>
            <a:off x="4140360" y="3254400"/>
            <a:ext cx="539640" cy="43164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6"/>
          <p:cNvSpPr/>
          <p:nvPr/>
        </p:nvSpPr>
        <p:spPr>
          <a:xfrm>
            <a:off x="2970360" y="1609560"/>
            <a:ext cx="280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ЗНИЧНЫЙ БЛ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Единое окн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3"/>
          <p:cNvSpPr/>
          <p:nvPr/>
        </p:nvSpPr>
        <p:spPr>
          <a:xfrm>
            <a:off x="395280" y="3146400"/>
            <a:ext cx="3708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  "/>
              </a:rPr>
              <a:t>ОСНОВНО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СУДАРСТВЕННАЯ ПОДДЕРЖ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3"/>
          <p:cNvSpPr/>
          <p:nvPr/>
        </p:nvSpPr>
        <p:spPr>
          <a:xfrm>
            <a:off x="4824360" y="3146400"/>
            <a:ext cx="360036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  "/>
              </a:rPr>
              <a:t>ОСНОВНО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ЖИЛЬЕ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продажа, сдача в аренд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66"/>
          <p:cNvSpPr/>
          <p:nvPr/>
        </p:nvSpPr>
        <p:spPr>
          <a:xfrm>
            <a:off x="431640" y="4191120"/>
            <a:ext cx="3600720" cy="13316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3"/>
          <p:cNvSpPr/>
          <p:nvPr/>
        </p:nvSpPr>
        <p:spPr>
          <a:xfrm>
            <a:off x="431640" y="4346640"/>
            <a:ext cx="36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ЛЬНЫЕ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66"/>
          <p:cNvSpPr/>
          <p:nvPr/>
        </p:nvSpPr>
        <p:spPr>
          <a:xfrm>
            <a:off x="4824360" y="4191120"/>
            <a:ext cx="3600360" cy="13316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3"/>
          <p:cNvSpPr/>
          <p:nvPr/>
        </p:nvSpPr>
        <p:spPr>
          <a:xfrm>
            <a:off x="2448000" y="559584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ил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971640" y="5595840"/>
            <a:ext cx="104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потеч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ед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66"/>
          <p:cNvSpPr/>
          <p:nvPr/>
        </p:nvSpPr>
        <p:spPr>
          <a:xfrm flipV="1">
            <a:off x="1042920" y="4947480"/>
            <a:ext cx="936720" cy="576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3"/>
          <p:cNvSpPr/>
          <p:nvPr/>
        </p:nvSpPr>
        <p:spPr>
          <a:xfrm>
            <a:off x="6588000" y="55958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сударстве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дер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66"/>
          <p:cNvSpPr/>
          <p:nvPr/>
        </p:nvSpPr>
        <p:spPr>
          <a:xfrm flipV="1">
            <a:off x="5418000" y="5019840"/>
            <a:ext cx="1008360" cy="504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66"/>
          <p:cNvSpPr/>
          <p:nvPr/>
        </p:nvSpPr>
        <p:spPr>
          <a:xfrm flipV="1">
            <a:off x="6875640" y="5019840"/>
            <a:ext cx="1009440" cy="504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66"/>
          <p:cNvSpPr/>
          <p:nvPr/>
        </p:nvSpPr>
        <p:spPr>
          <a:xfrm flipV="1">
            <a:off x="2519280" y="5379480"/>
            <a:ext cx="863640" cy="144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4"/>
          <p:cNvSpPr/>
          <p:nvPr/>
        </p:nvSpPr>
        <p:spPr>
          <a:xfrm>
            <a:off x="3492360" y="2535120"/>
            <a:ext cx="180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014–2015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право 97"/>
          <p:cNvSpPr/>
          <p:nvPr/>
        </p:nvSpPr>
        <p:spPr>
          <a:xfrm>
            <a:off x="4176720" y="4622760"/>
            <a:ext cx="503280" cy="433440"/>
          </a:xfrm>
          <a:prstGeom prst="rightArrow">
            <a:avLst>
              <a:gd name="adj1" fmla="val 50000"/>
              <a:gd name="adj2" fmla="val 49998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82"/>
          <p:cNvSpPr/>
          <p:nvPr/>
        </p:nvSpPr>
        <p:spPr>
          <a:xfrm flipH="1">
            <a:off x="431640" y="5522760"/>
            <a:ext cx="360072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88"/>
          <p:cNvSpPr/>
          <p:nvPr/>
        </p:nvSpPr>
        <p:spPr>
          <a:xfrm flipH="1">
            <a:off x="4824000" y="5522760"/>
            <a:ext cx="360036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3"/>
          <p:cNvSpPr/>
          <p:nvPr/>
        </p:nvSpPr>
        <p:spPr>
          <a:xfrm>
            <a:off x="5400720" y="5595840"/>
            <a:ext cx="104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потеч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еди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4824360" y="434664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ОПОЛНИТЕЛЬНЫЕ ПРОДУ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3"/>
          <p:cNvSpPr/>
          <p:nvPr/>
        </p:nvSpPr>
        <p:spPr>
          <a:xfrm>
            <a:off x="1727280" y="2535120"/>
            <a:ext cx="1008000" cy="213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013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4"/>
          <p:cNvSpPr/>
          <p:nvPr/>
        </p:nvSpPr>
        <p:spPr>
          <a:xfrm>
            <a:off x="5977080" y="2535120"/>
            <a:ext cx="1331640" cy="213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2016–2020 г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91F21-670A-48BE-8833-CB603BB9220A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Заголовок 1"/>
          <p:cNvSpPr/>
          <p:nvPr/>
        </p:nvSpPr>
        <p:spPr>
          <a:xfrm>
            <a:off x="431640" y="262800"/>
            <a:ext cx="5348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ЕРСПЕКТИВЫ РАЗВИТ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АГЕНТ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66"/>
          <p:cNvSpPr/>
          <p:nvPr/>
        </p:nvSpPr>
        <p:spPr>
          <a:xfrm>
            <a:off x="2808360" y="1989000"/>
            <a:ext cx="3132000" cy="5763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6"/>
          <p:cNvSpPr/>
          <p:nvPr/>
        </p:nvSpPr>
        <p:spPr>
          <a:xfrm>
            <a:off x="2970360" y="2108160"/>
            <a:ext cx="28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РПОРАТИВНЫЙ БЛ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2509920" y="3433680"/>
            <a:ext cx="372888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Формирование собственного фонда арендного жилья путем приобретения наемных (арендных) домов и управления и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66"/>
          <p:cNvSpPr/>
          <p:nvPr/>
        </p:nvSpPr>
        <p:spPr>
          <a:xfrm>
            <a:off x="2016000" y="2889360"/>
            <a:ext cx="4716720" cy="2016000"/>
          </a:xfrm>
          <a:prstGeom prst="rect">
            <a:avLst/>
          </a:prstGeom>
          <a:noFill/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99BD-81A2-409E-AD69-8A93774C71DB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31"/>
          <p:cNvSpPr/>
          <p:nvPr/>
        </p:nvSpPr>
        <p:spPr>
          <a:xfrm>
            <a:off x="4375080" y="2565360"/>
            <a:ext cx="0" cy="32400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Прямоугольник 3"/>
          <p:cNvSpPr/>
          <p:nvPr/>
        </p:nvSpPr>
        <p:spPr>
          <a:xfrm>
            <a:off x="431640" y="260280"/>
            <a:ext cx="680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ИЗВЕСТ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Calibri"/>
              </a:rPr>
              <a:t>ИПОТЕЧНОГО АГЕНТСТВА Ю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1692360" y="3135600"/>
            <a:ext cx="62276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"/>
                <a:ea typeface="Calibri"/>
              </a:rPr>
              <a:t>Это весьма высокий показатель известности для организации. При этом , каждый четвертый житель Югры хорошо знаком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 "/>
                <a:ea typeface="Calibri"/>
              </a:rPr>
              <a:t>с организацией и каждый десятый имеет опыт взаимодейств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 "/>
                <a:ea typeface="Calibri"/>
              </a:rPr>
              <a:t>с Агент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1655640" y="1700280"/>
            <a:ext cx="1548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Arial Narrow"/>
              </a:rPr>
              <a:t>72</a:t>
            </a:r>
            <a:r>
              <a:rPr b="1" lang="en-US" sz="2000" spc="-1" strike="noStrike">
                <a:solidFill>
                  <a:srgbClr val="0070c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0070c0"/>
                </a:solidFill>
                <a:latin typeface="Arial Narrow"/>
              </a:rPr>
              <a:t>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5"/>
          <p:cNvSpPr/>
          <p:nvPr/>
        </p:nvSpPr>
        <p:spPr>
          <a:xfrm>
            <a:off x="3168720" y="2282760"/>
            <a:ext cx="45720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 "/>
                <a:ea typeface="Calibri"/>
              </a:rPr>
              <a:t>уровень извест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 "/>
                <a:ea typeface="Calibri"/>
              </a:rPr>
              <a:t>и узнаваемости Агентства*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6"/>
          <p:cNvSpPr/>
          <p:nvPr/>
        </p:nvSpPr>
        <p:spPr>
          <a:xfrm>
            <a:off x="3132000" y="5597640"/>
            <a:ext cx="4680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Arial "/>
                <a:ea typeface="Calibri"/>
              </a:rPr>
              <a:t>*По данным социологического исследования, проведенного  в 2014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069B-7BAB-4F06-896B-133419B5B088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431640" y="262800"/>
            <a:ext cx="6624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АСТИЕ АГЕНТСТВА В РЕАЛ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КРУЖНОЙ ЖИЛИЩНОЙ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71640" y="1592280"/>
          <a:ext cx="6770520" cy="4751280"/>
        </p:xfrm>
        <a:graphic>
          <a:graphicData uri="http://schemas.openxmlformats.org/drawingml/2006/table">
            <a:tbl>
              <a:tblPr/>
              <a:tblGrid>
                <a:gridCol w="3490920"/>
                <a:gridCol w="1233360"/>
                <a:gridCol w="992160"/>
                <a:gridCol w="1054080"/>
              </a:tblGrid>
              <a:tr h="285840"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013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2014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Динамика, 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70c0"/>
                    </a:solidFill>
                  </a:tcPr>
                </a:tc>
              </a:tr>
              <a:tr h="285480">
                <a:tc gridSpan="4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УБСИД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 gridSpan="4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дпрограмма «Доступное жилье молодым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едоставлено субсид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6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ъем субсидий, млн. 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 269,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68,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2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50920">
                <a:tc gridSpan="4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дпрограмма «Обеспечение жилыми помещениями граждан из числа КМНС в ХМАО - Югре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12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едоставлено субсид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78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ъем субсидий, млн. руб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11,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4,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8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22200">
                <a:tc gridSpan="4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МПЕНСАЦИЯ ПРОЦЕНТНОЙ СТАВ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ведено консультаций, сем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3 4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0 2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5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оставлено на учет, сем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 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 5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50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ключено трехсторонних соглашений, ш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 9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 4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64,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тоимость приобретенной в рамках подпрограммы жилья, млн. руб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 842,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 37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63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25440">
                <a:tc gridSpan="4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КОПИТЕЛЬНАЯ ИПОТЕ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092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инято заявлений, сем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ключено договоров социальной выплаты, шт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54720" rIns="54720" tIns="0" bIns="0" anchor="ctr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ъем обязательств по договорам социальных выплат, млн. ру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,9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720" marR="54720">
                    <a:lnL w="5760">
                      <a:solidFill>
                        <a:srgbClr val="7f7f7f"/>
                      </a:solidFill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1872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TextBox 6"/>
          <p:cNvSpPr/>
          <p:nvPr/>
        </p:nvSpPr>
        <p:spPr>
          <a:xfrm>
            <a:off x="830628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CA31-CDDE-431D-9E6D-F9E5B94A4DD8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олилиния 18"/>
          <p:cNvSpPr/>
          <p:nvPr/>
        </p:nvSpPr>
        <p:spPr>
          <a:xfrm>
            <a:off x="2951280" y="2276640"/>
            <a:ext cx="3060720" cy="2447640"/>
          </a:xfrm>
          <a:custGeom>
            <a:avLst/>
            <a:gdLst/>
            <a:ahLst/>
            <a:rect l="l" t="t" r="r" b="b"/>
            <a:pathLst>
              <a:path w="2957399" h="2448272">
                <a:moveTo>
                  <a:pt x="0" y="0"/>
                </a:moveTo>
                <a:lnTo>
                  <a:pt x="2957399" y="432048"/>
                </a:lnTo>
                <a:lnTo>
                  <a:pt x="2957399" y="2016224"/>
                </a:lnTo>
                <a:lnTo>
                  <a:pt x="0" y="2448272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17"/>
          <p:cNvSpPr/>
          <p:nvPr/>
        </p:nvSpPr>
        <p:spPr>
          <a:xfrm>
            <a:off x="5184720" y="2708280"/>
            <a:ext cx="1582920" cy="15843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6"/>
          <p:cNvSpPr/>
          <p:nvPr/>
        </p:nvSpPr>
        <p:spPr>
          <a:xfrm>
            <a:off x="1763640" y="2276640"/>
            <a:ext cx="2448000" cy="244764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31280" y="266760"/>
            <a:ext cx="5348520" cy="5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  "/>
                <a:ea typeface="Calibri"/>
              </a:rPr>
              <a:t>ОСОБЕННОСТИ РЕАЛИЗАЦИИ ОКРУЖНОЙ ЖИЛИЩНОЙ ПРОГРАММЫ В 2014 ГОД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"/>
          <p:cNvSpPr/>
          <p:nvPr/>
        </p:nvSpPr>
        <p:spPr>
          <a:xfrm>
            <a:off x="830700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5597-EF1A-4CC3-B83F-0F0EE7689E5B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Группа 19"/>
          <p:cNvGrpSpPr/>
          <p:nvPr/>
        </p:nvGrpSpPr>
        <p:grpSpPr>
          <a:xfrm>
            <a:off x="1996920" y="2922480"/>
            <a:ext cx="1981440" cy="937080"/>
            <a:chOff x="1996920" y="2922480"/>
            <a:chExt cx="1981440" cy="937080"/>
          </a:xfrm>
        </p:grpSpPr>
        <p:sp>
          <p:nvSpPr>
            <p:cNvPr id="158" name="Прямоугольник 8"/>
            <p:cNvSpPr/>
            <p:nvPr/>
          </p:nvSpPr>
          <p:spPr>
            <a:xfrm>
              <a:off x="1996920" y="3643560"/>
              <a:ext cx="1981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Arial Narrow"/>
                </a:rPr>
                <a:t>9</a:t>
              </a:r>
              <a:r>
                <a:rPr b="1" lang="ru-RU" sz="4800" spc="-1" strike="noStrike">
                  <a:solidFill>
                    <a:srgbClr val="ffffff"/>
                  </a:solidFill>
                  <a:latin typeface="Arial Narrow"/>
                </a:rPr>
                <a:t> </a:t>
              </a:r>
              <a:r>
                <a:rPr b="1" lang="en-US" sz="4800" spc="-1" strike="noStrike">
                  <a:solidFill>
                    <a:srgbClr val="ffffff"/>
                  </a:solidFill>
                  <a:latin typeface="Arial Narrow"/>
                </a:rPr>
                <a:t>94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Прямоугольник 8"/>
            <p:cNvSpPr/>
            <p:nvPr/>
          </p:nvSpPr>
          <p:spPr>
            <a:xfrm>
              <a:off x="2537280" y="2922480"/>
              <a:ext cx="900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c000"/>
                  </a:solidFill>
                  <a:latin typeface="Arial Narrow"/>
                </a:rPr>
                <a:t>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Группа 20"/>
          <p:cNvGrpSpPr/>
          <p:nvPr/>
        </p:nvGrpSpPr>
        <p:grpSpPr>
          <a:xfrm>
            <a:off x="5111640" y="2960640"/>
            <a:ext cx="1800360" cy="808200"/>
            <a:chOff x="5111640" y="2960640"/>
            <a:chExt cx="1800360" cy="808200"/>
          </a:xfrm>
        </p:grpSpPr>
        <p:sp>
          <p:nvSpPr>
            <p:cNvPr id="161" name="Прямоугольник 8"/>
            <p:cNvSpPr/>
            <p:nvPr/>
          </p:nvSpPr>
          <p:spPr>
            <a:xfrm>
              <a:off x="5111640" y="3552840"/>
              <a:ext cx="18003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800" spc="-1" strike="noStrike">
                  <a:solidFill>
                    <a:srgbClr val="ffffff"/>
                  </a:solidFill>
                  <a:latin typeface="Arial Narrow"/>
                </a:rPr>
                <a:t>3 49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Прямоугольник 8"/>
            <p:cNvSpPr/>
            <p:nvPr/>
          </p:nvSpPr>
          <p:spPr>
            <a:xfrm>
              <a:off x="5561640" y="2960640"/>
              <a:ext cx="90036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rmAutofit/>
            </a:bodyPr>
            <a:p>
              <a:pPr algn="ctr">
                <a:lnSpc>
                  <a:spcPts val="16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c000"/>
                  </a:solidFill>
                  <a:latin typeface="Arial Narrow"/>
                </a:rPr>
                <a:t>201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Полилиния 22"/>
          <p:cNvSpPr/>
          <p:nvPr/>
        </p:nvSpPr>
        <p:spPr>
          <a:xfrm>
            <a:off x="4103640" y="4400640"/>
            <a:ext cx="4068720" cy="1873080"/>
          </a:xfrm>
          <a:custGeom>
            <a:avLst/>
            <a:gdLst/>
            <a:ahLst/>
            <a:rect l="l" t="t" r="r" b="b"/>
            <a:pathLst>
              <a:path w="3636404" h="1872208">
                <a:moveTo>
                  <a:pt x="0" y="545402"/>
                </a:moveTo>
                <a:cubicBezTo>
                  <a:pt x="0" y="496241"/>
                  <a:pt x="19529" y="449093"/>
                  <a:pt x="54291" y="414331"/>
                </a:cubicBezTo>
                <a:cubicBezTo>
                  <a:pt x="89053" y="379569"/>
                  <a:pt x="127027" y="369921"/>
                  <a:pt x="185362" y="360040"/>
                </a:cubicBezTo>
                <a:lnTo>
                  <a:pt x="396044" y="360040"/>
                </a:lnTo>
                <a:lnTo>
                  <a:pt x="396044" y="0"/>
                </a:lnTo>
                <a:lnTo>
                  <a:pt x="912304" y="355042"/>
                </a:lnTo>
                <a:lnTo>
                  <a:pt x="3451042" y="360040"/>
                </a:lnTo>
                <a:cubicBezTo>
                  <a:pt x="3500203" y="360040"/>
                  <a:pt x="3547351" y="379569"/>
                  <a:pt x="3582113" y="414331"/>
                </a:cubicBezTo>
                <a:cubicBezTo>
                  <a:pt x="3616875" y="449093"/>
                  <a:pt x="3636404" y="496241"/>
                  <a:pt x="3636404" y="545402"/>
                </a:cubicBezTo>
                <a:lnTo>
                  <a:pt x="3636404" y="1686846"/>
                </a:lnTo>
                <a:cubicBezTo>
                  <a:pt x="3636404" y="1736007"/>
                  <a:pt x="3616875" y="1783155"/>
                  <a:pt x="3582113" y="1817917"/>
                </a:cubicBezTo>
                <a:cubicBezTo>
                  <a:pt x="3547351" y="1852679"/>
                  <a:pt x="3500203" y="1872208"/>
                  <a:pt x="3451042" y="1872208"/>
                </a:cubicBezTo>
                <a:lnTo>
                  <a:pt x="185362" y="1872208"/>
                </a:lnTo>
                <a:cubicBezTo>
                  <a:pt x="136201" y="1872208"/>
                  <a:pt x="89053" y="1852679"/>
                  <a:pt x="54291" y="1817917"/>
                </a:cubicBezTo>
                <a:cubicBezTo>
                  <a:pt x="19529" y="1783155"/>
                  <a:pt x="0" y="1736007"/>
                  <a:pt x="0" y="1686846"/>
                </a:cubicBezTo>
                <a:lnTo>
                  <a:pt x="0" y="545402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2016000" y="1773360"/>
            <a:ext cx="4751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личество подписанных 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х сторонних соглаш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"/>
          <p:cNvSpPr/>
          <p:nvPr/>
        </p:nvSpPr>
        <p:spPr>
          <a:xfrm>
            <a:off x="4500720" y="5013360"/>
            <a:ext cx="338436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жными факторами, повлиявшим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уменьшение количества новых участников в 2014 году, стало введение «ценза» оседлости и уменьшение компенсации части процентной став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Прямоугольник 3"/>
          <p:cNvSpPr/>
          <p:nvPr/>
        </p:nvSpPr>
        <p:spPr>
          <a:xfrm>
            <a:off x="431640" y="260280"/>
            <a:ext cx="6588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М ИПОТЕЧНОГО КРЕДИТ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ХМАО – ЮГ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8307000" y="6498360"/>
            <a:ext cx="761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69F6-D9F7-46AC-A2AB-3CD5C2005730}" type="slidenum">
              <a:rPr b="0" lang="ru-RU" sz="1600" spc="-1" strike="noStrike">
                <a:solidFill>
                  <a:srgbClr val="1f497d"/>
                </a:solidFill>
                <a:latin typeface="Arial Narro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Диаграмма 29" descr=""/>
          <p:cNvPicPr/>
          <p:nvPr/>
        </p:nvPicPr>
        <p:blipFill>
          <a:blip r:embed="rId2"/>
          <a:stretch/>
        </p:blipFill>
        <p:spPr>
          <a:xfrm>
            <a:off x="1908000" y="1987560"/>
            <a:ext cx="4821480" cy="3243240"/>
          </a:xfrm>
          <a:prstGeom prst="rect">
            <a:avLst/>
          </a:prstGeom>
          <a:ln w="0">
            <a:noFill/>
          </a:ln>
        </p:spPr>
      </p:pic>
      <p:sp>
        <p:nvSpPr>
          <p:cNvPr id="169" name="Прямая соединительная линия 31"/>
          <p:cNvSpPr/>
          <p:nvPr/>
        </p:nvSpPr>
        <p:spPr>
          <a:xfrm>
            <a:off x="3311640" y="2349360"/>
            <a:ext cx="2197080" cy="216000"/>
          </a:xfrm>
          <a:prstGeom prst="line">
            <a:avLst/>
          </a:prstGeom>
          <a:ln w="19080">
            <a:solidFill>
              <a:srgbClr val="c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33"/>
          <p:cNvSpPr/>
          <p:nvPr/>
        </p:nvSpPr>
        <p:spPr>
          <a:xfrm flipV="1">
            <a:off x="3311640" y="3500280"/>
            <a:ext cx="2197080" cy="43344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2"/>
          <p:cNvSpPr/>
          <p:nvPr/>
        </p:nvSpPr>
        <p:spPr>
          <a:xfrm>
            <a:off x="3959280" y="3511440"/>
            <a:ext cx="934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Arial "/>
              </a:rPr>
              <a:t>63</a:t>
            </a:r>
            <a:r>
              <a:rPr b="1" lang="ru-RU" sz="1100" spc="-1" strike="noStrike">
                <a:solidFill>
                  <a:srgbClr val="c00000"/>
                </a:solidFill>
                <a:latin typeface="Arial "/>
              </a:rPr>
              <a:t>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2"/>
          <p:cNvSpPr/>
          <p:nvPr/>
        </p:nvSpPr>
        <p:spPr>
          <a:xfrm>
            <a:off x="3941640" y="2205000"/>
            <a:ext cx="93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 "/>
              </a:rPr>
              <a:t>-12</a:t>
            </a:r>
            <a:r>
              <a:rPr b="1" lang="ru-RU" sz="1200" spc="-1" strike="noStrike">
                <a:solidFill>
                  <a:srgbClr val="c00000"/>
                </a:solidFill>
                <a:latin typeface="Arial "/>
              </a:rPr>
              <a:t>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735280" y="4473720"/>
          <a:ext cx="3780000" cy="1223640"/>
        </p:xfrm>
        <a:graphic>
          <a:graphicData uri="http://schemas.openxmlformats.org/drawingml/2006/table">
            <a:tbl>
              <a:tblPr/>
              <a:tblGrid>
                <a:gridCol w="3780000"/>
              </a:tblGrid>
              <a:tr h="30636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  "/>
                          <a:ea typeface="Calibri"/>
                        </a:rPr>
                        <a:t>в т.ч. «Льготная ипотека», млрд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56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  "/>
                          <a:ea typeface="Calibri"/>
                        </a:rPr>
                        <a:t>в т.ч. «Коммерческая ипотека», млрд.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6360">
                <a:tc>
                  <a:txBody>
                    <a:bodyPr lIns="0" rIns="0" tIns="0" bIns="0" anchor="ctr">
                      <a:noAutofit/>
                    </a:bodyPr>
                    <a:p>
                      <a:pPr marL="34920">
                        <a:lnSpc>
                          <a:spcPts val="11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  "/>
                          <a:ea typeface="Calibri"/>
                        </a:rPr>
                        <a:t>Динамика,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Прямоугольник 41"/>
          <p:cNvSpPr/>
          <p:nvPr/>
        </p:nvSpPr>
        <p:spPr>
          <a:xfrm>
            <a:off x="2519280" y="4905360"/>
            <a:ext cx="108000" cy="108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42"/>
          <p:cNvSpPr/>
          <p:nvPr/>
        </p:nvSpPr>
        <p:spPr>
          <a:xfrm>
            <a:off x="2519280" y="5192640"/>
            <a:ext cx="108000" cy="10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12"/>
          <p:cNvSpPr/>
          <p:nvPr/>
        </p:nvSpPr>
        <p:spPr>
          <a:xfrm flipH="1">
            <a:off x="2484000" y="5553000"/>
            <a:ext cx="179640" cy="0"/>
          </a:xfrm>
          <a:prstGeom prst="line">
            <a:avLst/>
          </a:prstGeom>
          <a:ln w="28440">
            <a:solidFill>
              <a:srgbClr val="c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3062520" y="2492280"/>
            <a:ext cx="531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24,3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5"/>
          <p:cNvSpPr/>
          <p:nvPr/>
        </p:nvSpPr>
        <p:spPr>
          <a:xfrm>
            <a:off x="5258880" y="2637000"/>
            <a:ext cx="453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9,2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19"/>
          <p:cNvSpPr/>
          <p:nvPr/>
        </p:nvSpPr>
        <p:spPr>
          <a:xfrm>
            <a:off x="3311640" y="2816280"/>
            <a:ext cx="2197080" cy="144360"/>
          </a:xfrm>
          <a:prstGeom prst="line">
            <a:avLst/>
          </a:prstGeom>
          <a:ln w="19080">
            <a:solidFill>
              <a:srgbClr val="c00000"/>
            </a:solidFill>
            <a:prstDash val="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22"/>
          <p:cNvSpPr/>
          <p:nvPr/>
        </p:nvSpPr>
        <p:spPr>
          <a:xfrm>
            <a:off x="3995640" y="2682720"/>
            <a:ext cx="935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00000"/>
                </a:solidFill>
                <a:latin typeface="Arial "/>
              </a:rPr>
              <a:t>-</a:t>
            </a:r>
            <a:r>
              <a:rPr b="1" lang="en-US" sz="1100" spc="-1" strike="noStrike">
                <a:solidFill>
                  <a:srgbClr val="c00000"/>
                </a:solidFill>
                <a:latin typeface="Arial "/>
              </a:rPr>
              <a:t>6</a:t>
            </a:r>
            <a:r>
              <a:rPr b="1" lang="ru-RU" sz="1100" spc="-1" strike="noStrike">
                <a:solidFill>
                  <a:srgbClr val="c00000"/>
                </a:solidFill>
                <a:latin typeface="Arial "/>
              </a:rPr>
              <a:t>2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6:20:40Z</dcterms:created>
  <dc:creator>ZimaSV</dc:creator>
  <dc:description/>
  <dc:language>en-US</dc:language>
  <cp:lastModifiedBy>Приходченко Наталья Сергеевна</cp:lastModifiedBy>
  <cp:lastPrinted>2014-05-21T06:20:28Z</cp:lastPrinted>
  <dcterms:modified xsi:type="dcterms:W3CDTF">2015-04-06T05:52:54Z</dcterms:modified>
  <cp:revision>1517</cp:revision>
  <dc:subject/>
  <dc:title>Слайд 1</dc:title>
</cp:coreProperties>
</file>